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FBF-8073-4B6F-AA8F-410D844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539-77F2-4002-8E56-F2E8A40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967-753D-4AE9-B6DF-C766F240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EBF-3768-4369-B9F6-9C02C736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C957-5277-424B-8F83-DF84FEA5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9ABC-DC18-4B55-AE7D-61C94B4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AE550-7CAA-47B6-8156-312C5FB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733C-1181-453D-85A4-862E443A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6CB44-AD68-4BA0-9CDE-B4A66BC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1FF9B-B793-4801-8157-7DF8781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98595-1CD2-4487-8DDC-AD1FC0A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8ED-CF93-474F-A505-56ED274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E931-66F4-4DC1-A9AE-6517AF3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A727-D689-4371-A383-7E72D6E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E02CB-2797-4AF1-87DA-58E903C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C04D-4B4E-4AB6-866C-E471FE2F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D7E9-8B9C-462F-BA73-6968D281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8D07-B7DE-426E-86EE-8EA52435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EFE1-97A7-462D-9196-D69E2A5E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B3F2-BF64-41D8-91F1-62BF7131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4FA4-06F2-48BC-92D0-B93297F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22BE-0A44-4132-8A4B-7CC3AA9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81A-44C2-47A6-A885-4CA3C568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DD47-6D7C-43D9-AB8D-B5F30A1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3177-D270-4CF0-936C-0C9F619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C095-DDB4-4AB8-B741-8BF70EC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413C-EEBC-496F-BAFA-7289A49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57EE-5141-48A5-BDCE-8C77D8A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585C-BBBE-435E-9DD4-B9022302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B04D-546C-4521-8036-1D44BF64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78469-0A41-49AE-912F-649E6722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F987E-F958-4C89-98A0-0671A74C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5500A-C71E-461F-ADC2-19D10AA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B8B-8948-4A56-81E6-B82D2F5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26221-A6D3-4D55-9FA2-6B478361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78FD7-9F2A-4F61-B77D-A8BDC6E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6FBDC-8372-404D-BC6C-A563D1D7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3BDAA-E525-44DE-80F6-90AFC7D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8A1DC-A1BC-4637-A1DB-1A82E27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F64B6-CA74-48E8-B45B-6BEBF77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C229D-B30E-4059-B76B-5F4C24D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ED8EC-E8EE-4D5F-9AD5-27C50241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D39F6-701B-4E53-AF4B-E50C445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453-1358-4054-BA53-7308DB96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C2B-1089-4007-B65D-1A682AE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4CC-3F0A-4004-8165-8C2BAE3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B8B-C53A-40E1-891F-BAE3C41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577-AB2A-4564-971D-7291ACF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3C7-C28E-4D18-824C-70147BB16CAD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Elipsa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5170-4E5D-41BA-A041-8DBF3E1F2285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E77-4114-4F20-B003-98BF91EDFC6F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3a447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3540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93540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9CD5-3F0D-47F2-AA6E-74BB6D22ABE2}" type="slidenum">
              <a:rPr b="0" lang="cs-CZ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26560" y="4149360"/>
            <a:ext cx="741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333a1d"/>
                </a:solidFill>
                <a:latin typeface="Calibri"/>
              </a:rPr>
              <a:t>Vlastislav Ouroda</a:t>
            </a:r>
            <a:endParaRPr b="0" lang="en-US" sz="2200" spc="-1" strike="noStrike">
              <a:solidFill>
                <a:srgbClr val="f3a44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3a44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isterstvo kultury ČR</a:t>
            </a:r>
            <a:endParaRPr b="0" lang="en-US" sz="22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7845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jistit a rozvíjet program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tegrovaný systém ochrany movitého kulturního dědictví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e všech jeho částech, při naplňování programu spolupracovat s dalšími resorty – flexibilně (požární ochrana –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Calibri"/>
              </a:rPr>
              <a:t>v PSP schválena  novela požárního zákona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ýkající se mj. kulturních památek)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– zabezpečení objektů v nichž jsou uloženy předměty movitého KD bezpečnostními systémy a mechanickými zábranami 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 – evidence a dokumentace movitého KD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 – Výkupy předmětů kulturní hodnoty mimořádného významu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– Preventivní ochrana před nepříznivými vlivy prostředí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 – uplatnění předkupního práva státu a nároku na převedení movitého archeologického nálezu do vlastnictví státu. </a:t>
            </a:r>
            <a:endParaRPr b="0" lang="en-US" sz="20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1" name="Nadpis 2" descr=""/>
          <p:cNvPicPr/>
          <p:nvPr/>
        </p:nvPicPr>
        <p:blipFill>
          <a:blip r:embed="rId1"/>
          <a:stretch/>
        </p:blipFill>
        <p:spPr>
          <a:xfrm>
            <a:off x="274680" y="401760"/>
            <a:ext cx="84121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možností úspěšné vyjednávání o stavebním zákoně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pis nominace Slavné lázně Evropy na seznam světového dědictví UNESCO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4" name="obrázek 4" descr="https://www.mkcr.cz/doc/cms_library/03-frantiskovy-lazne-13736.jpg"/>
          <p:cNvPicPr/>
          <p:nvPr/>
        </p:nvPicPr>
        <p:blipFill>
          <a:blip r:embed="rId2"/>
          <a:stretch/>
        </p:blipFill>
        <p:spPr>
          <a:xfrm>
            <a:off x="4572000" y="2060640"/>
            <a:ext cx="43513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dle situace ve stavební legislativě komplexním, nebo dílčím způsobem zkvalitnit památkový zákon…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mátky a změna klimatu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Implementace Davoské deklarace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ualizace indikativního seznamu nominací UNESCO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kračovat ve vyhlašování krajinných památkových zón opatřením obecné povahy a kulturních památek ve správním řízení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kračování podpůrných finančních programů pro záchranu a obnovu kulturních památek. 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cování z IROP.</a:t>
            </a: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6" name="Nadpis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dělávací programy pro školy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zšíření on-line platforem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ání úspěšných tematických projektů (Dny evropského kulturního dědictví, Mezinárodní den památek a sídel, Festival muzejních nocí, Hradozámecká noc, Noc kostelů,…)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zea a galerie jako místa setkávání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nzivnější provázání dat o kulturním dědictví s cestovním ruchem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98" name="Nadpis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6011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tvářet podmínky pro čerpání mezinárodních fondů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at v podpoře vědeckovýzkumné činnosti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ě apelovat na provázání příjmů vzniklých z činnosti kulturních institucí s financováním kultur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třeba dalšího růstu mezd v kultuře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200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start provozu kulturních institucí po omezeních v důsledku pandemie. 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rava na využití Národního plánu obnov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sednictví ČR v EU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Generální konference ICOM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egislativní úkol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kvalitnění péče o sbírky muzejní povah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ání záchrany a obnovy památek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e kulturního dědictví veřejnosti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3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 době omezení (státní + nestátní)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led do konce roku 2021.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n a rozpočet 2022 (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držet kvalitu poskytované kulturní služby, udržet kvalitní týmy zaměstnanců, zkušenost z pandemie jako zdroj inspirace pro další rozvoj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5" name="Nadpis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4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gitalizace. 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rnizace kulturních institucí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ulturní kreativní centra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da a výzkum – TAČR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dministrace výzev, role MK, MPO, MF, MMR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7" name="Nadpis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pojení kulturních institucí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mezené finanční možnosti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uropa Nostra Summit Prague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zinárodní konference o památkové péči (pořádá Národní památkový ústav za podpory MK)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GK ICOM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79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pěšná nominace po mnoha desetiletích úsilí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pěšně proběhlo přípravné sympozium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ybridní formát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ilný impulz pro restart turistického ruchu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41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amátkový záko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/ novelizace.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azba na další vývoj stavebního zákona, MK svolá znovu širokou platformu účastníků diskuse).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elizace zák. č.  71/1994 Sb.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ákon o prodeji a vývozu předmětů kulturní hodnot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elmi pokročilý stav zpracování, ale nelze v tomto volebním období schválit.)  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ová muzejní legislativ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zejm. v oblasti institucí - registrace muze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navázat na přerušená jednání a zohlednit mj. aktuální zkušenosti z doby pandemie).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4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lez NKÚ ke kontrole zákona 122/ 2000 Sb. – Zákon o ochraně sbírek muzejní povahy. 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pravná opatření, personální limity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ízení nového evidenčního SW v rámci NPO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utnost personálního zajištění udržitelného evidenčního systému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6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Nadpis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račování mezinárodní spolupráce podle úmluv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konference CULTNET 2022 pořádané Policií ČR.</a:t>
            </a:r>
            <a:endParaRPr b="0" lang="en-US" sz="2800" spc="-1" strike="noStrike">
              <a:solidFill>
                <a:srgbClr val="f3a447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pěšné příklady navracení odcizených uměleckých děl do ČR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tít z Konopiště, andělé z Perninku, ad.)</a:t>
            </a:r>
            <a:endParaRPr b="0" lang="en-US" sz="2400" spc="-1" strike="noStrike">
              <a:solidFill>
                <a:srgbClr val="f3a447"/>
              </a:solidFill>
              <a:latin typeface="Trebuchet MS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2:11:43Z</dcterms:created>
  <dc:creator>Bečvář</dc:creator>
  <dc:description/>
  <dc:language>en-US</dc:language>
  <cp:lastModifiedBy>Vlastislav Ouroda</cp:lastModifiedBy>
  <dcterms:modified xsi:type="dcterms:W3CDTF">2021-09-20T13:08:15Z</dcterms:modified>
  <cp:revision>179</cp:revision>
  <dc:subject/>
  <dc:title>Prezentace aplikace PowerPoint</dc:title>
</cp:coreProperties>
</file>