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604759-0FB6-4ED3-9611-11EB6FAE4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21880" y="286920"/>
            <a:ext cx="7543800" cy="102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21880" y="1585800"/>
            <a:ext cx="754380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821880" y="3823200"/>
            <a:ext cx="754380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4967A7-E253-49B2-A555-6AB7CB52D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21880" y="286920"/>
            <a:ext cx="7543800" cy="102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21880" y="1585800"/>
            <a:ext cx="368136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7560" y="1585800"/>
            <a:ext cx="368136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821880" y="3823200"/>
            <a:ext cx="368136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7560" y="3823200"/>
            <a:ext cx="368136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E2E20A-045C-478D-B476-5314185D0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21880" y="286920"/>
            <a:ext cx="7543800" cy="102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21880" y="1585800"/>
            <a:ext cx="242892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72480" y="1585800"/>
            <a:ext cx="242892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23440" y="1585800"/>
            <a:ext cx="242892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821880" y="3823200"/>
            <a:ext cx="242892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72480" y="3823200"/>
            <a:ext cx="242892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23440" y="3823200"/>
            <a:ext cx="242892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E9AA1F-A3F3-462D-A10A-E70572323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762DF-159A-443B-B694-A5E40C259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21880" y="286920"/>
            <a:ext cx="7543800" cy="102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821880" y="1585800"/>
            <a:ext cx="754380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F7509-D883-4615-A5AA-B2B8F7358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21880" y="286920"/>
            <a:ext cx="7543800" cy="102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21880" y="1585800"/>
            <a:ext cx="754380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B8D79-2331-4186-95EF-70E6877E6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21880" y="286920"/>
            <a:ext cx="7543800" cy="102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21880" y="1585800"/>
            <a:ext cx="368136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7560" y="1585800"/>
            <a:ext cx="368136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07EBA-A604-4C8E-A3F5-BD2918B50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21880" y="286920"/>
            <a:ext cx="7543800" cy="102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B5FB8-EF68-4037-9AA0-8D747CE46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821880" y="286920"/>
            <a:ext cx="7543800" cy="47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45569-A10E-4F38-8EDB-C1B85F50F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21880" y="286920"/>
            <a:ext cx="7543800" cy="102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21880" y="1585800"/>
            <a:ext cx="368136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7560" y="1585800"/>
            <a:ext cx="368136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21880" y="3823200"/>
            <a:ext cx="368136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FEDF2-A8B5-430F-8DA1-FA31264AE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1880" y="286920"/>
            <a:ext cx="7543800" cy="102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821880" y="1585800"/>
            <a:ext cx="754380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B004BF-3F51-438E-AC30-233720B90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21880" y="286920"/>
            <a:ext cx="7543800" cy="102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21880" y="1585800"/>
            <a:ext cx="368136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7560" y="1585800"/>
            <a:ext cx="368136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87560" y="3823200"/>
            <a:ext cx="368136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DBEA1-1DEB-4B5F-9F31-D0CA6FD07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21880" y="286920"/>
            <a:ext cx="7543800" cy="102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21880" y="1585800"/>
            <a:ext cx="368136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87560" y="1585800"/>
            <a:ext cx="368136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21880" y="3823200"/>
            <a:ext cx="754380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C5E31-AE4E-4CCD-A68A-8CD04656B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21880" y="286920"/>
            <a:ext cx="7543800" cy="102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21880" y="1585800"/>
            <a:ext cx="754380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821880" y="3823200"/>
            <a:ext cx="754380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3ED50-1876-4CFE-8F5D-8F73F108F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21880" y="286920"/>
            <a:ext cx="7543800" cy="102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21880" y="1585800"/>
            <a:ext cx="368136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87560" y="1585800"/>
            <a:ext cx="368136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821880" y="3823200"/>
            <a:ext cx="368136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87560" y="3823200"/>
            <a:ext cx="368136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20B55-98A0-45FA-B260-25E60557B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21880" y="286920"/>
            <a:ext cx="7543800" cy="102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21880" y="1585800"/>
            <a:ext cx="242892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372480" y="1585800"/>
            <a:ext cx="242892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5923440" y="1585800"/>
            <a:ext cx="242892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821880" y="3823200"/>
            <a:ext cx="242892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372480" y="3823200"/>
            <a:ext cx="242892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5923440" y="3823200"/>
            <a:ext cx="242892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E362F-A823-41E6-A58D-EAA559BC0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2B7DB4-0602-4C8F-9F58-0380F1B1D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21880" y="286920"/>
            <a:ext cx="7543800" cy="102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821880" y="1585800"/>
            <a:ext cx="754380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B577D1-E6C2-4A5E-B15D-F40ACE767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21880" y="286920"/>
            <a:ext cx="7543800" cy="102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21880" y="1585800"/>
            <a:ext cx="754380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1A9922-7AD9-40C6-B46C-FB635EFD8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21880" y="286920"/>
            <a:ext cx="7543800" cy="102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21880" y="1585800"/>
            <a:ext cx="368136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87560" y="1585800"/>
            <a:ext cx="368136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36563C-798B-4664-A269-D44B5BFFC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21880" y="286920"/>
            <a:ext cx="7543800" cy="102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E68732-9202-44B5-9423-2BF053A43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21880" y="286920"/>
            <a:ext cx="7543800" cy="102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21880" y="1585800"/>
            <a:ext cx="754380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9342AE-99B1-4914-90D8-EFE509FF2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821880" y="286920"/>
            <a:ext cx="7543800" cy="47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BB98E7-907E-4D14-B537-DE7C5B9DE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21880" y="286920"/>
            <a:ext cx="7543800" cy="102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21880" y="1585800"/>
            <a:ext cx="368136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87560" y="1585800"/>
            <a:ext cx="368136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821880" y="3823200"/>
            <a:ext cx="368136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9AD468-446E-410C-93F3-199D7FBBD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1880" y="286920"/>
            <a:ext cx="7543800" cy="102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1880" y="1585800"/>
            <a:ext cx="368136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87560" y="1585800"/>
            <a:ext cx="368136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687560" y="3823200"/>
            <a:ext cx="368136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A92B28-9640-4FFF-AC05-892822821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21880" y="286920"/>
            <a:ext cx="7543800" cy="102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21880" y="1585800"/>
            <a:ext cx="368136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87560" y="1585800"/>
            <a:ext cx="368136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821880" y="3823200"/>
            <a:ext cx="754380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C5E868-22D3-4782-8BB0-C8F31CD5D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21880" y="286920"/>
            <a:ext cx="7543800" cy="102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21880" y="1585800"/>
            <a:ext cx="754380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821880" y="3823200"/>
            <a:ext cx="754380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808692-0900-4520-9F80-9F3917886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21880" y="286920"/>
            <a:ext cx="7543800" cy="102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21880" y="1585800"/>
            <a:ext cx="368136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87560" y="1585800"/>
            <a:ext cx="368136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821880" y="3823200"/>
            <a:ext cx="368136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687560" y="3823200"/>
            <a:ext cx="368136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F6D0C7-2EBD-4FDB-8D10-B94248E32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21880" y="286920"/>
            <a:ext cx="7543800" cy="102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21880" y="1585800"/>
            <a:ext cx="242892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372480" y="1585800"/>
            <a:ext cx="242892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5923440" y="1585800"/>
            <a:ext cx="242892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821880" y="3823200"/>
            <a:ext cx="242892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372480" y="3823200"/>
            <a:ext cx="242892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5923440" y="3823200"/>
            <a:ext cx="242892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6F2E43-55B7-440A-95AB-C5285A840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C2881D-88C1-4DCE-B049-BFA51D4B2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21880" y="286920"/>
            <a:ext cx="7543800" cy="102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821880" y="1585800"/>
            <a:ext cx="754380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98DF2E-B929-45D7-8A7E-B6D2D8C69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21880" y="286920"/>
            <a:ext cx="7543800" cy="102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21880" y="1585800"/>
            <a:ext cx="754380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FCFE4C-57D8-4E2F-9FDC-CD7F5DEA8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21880" y="286920"/>
            <a:ext cx="7543800" cy="102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21880" y="1585800"/>
            <a:ext cx="368136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7560" y="1585800"/>
            <a:ext cx="368136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EDA7AA-DACC-4EC2-AD70-F05BDF538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21880" y="286920"/>
            <a:ext cx="7543800" cy="102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21880" y="1585800"/>
            <a:ext cx="368136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87560" y="1585800"/>
            <a:ext cx="368136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6E4BC8-3639-4165-95D2-EBEA9A242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21880" y="286920"/>
            <a:ext cx="7543800" cy="102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565A9A-3CEE-48C2-B5CE-F272D95E9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821880" y="286920"/>
            <a:ext cx="7543800" cy="47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2F08E3-725D-425B-9837-BF4EB16EE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21880" y="286920"/>
            <a:ext cx="7543800" cy="102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21880" y="1585800"/>
            <a:ext cx="368136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87560" y="1585800"/>
            <a:ext cx="368136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821880" y="3823200"/>
            <a:ext cx="368136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CAB0D8-69F7-4582-855D-DE2960E6E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21880" y="286920"/>
            <a:ext cx="7543800" cy="102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21880" y="1585800"/>
            <a:ext cx="368136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87560" y="1585800"/>
            <a:ext cx="368136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687560" y="3823200"/>
            <a:ext cx="368136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2BAB98-50E5-4B8D-BB25-71AC99A9D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21880" y="286920"/>
            <a:ext cx="7543800" cy="102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821880" y="1585800"/>
            <a:ext cx="368136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87560" y="1585800"/>
            <a:ext cx="368136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821880" y="3823200"/>
            <a:ext cx="754380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DE6D1F-61C8-483E-939E-24FD182C4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21880" y="286920"/>
            <a:ext cx="7543800" cy="102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21880" y="1585800"/>
            <a:ext cx="754380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821880" y="3823200"/>
            <a:ext cx="754380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AF9556-F73F-4A8A-96EC-433EAB49B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21880" y="286920"/>
            <a:ext cx="7543800" cy="102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21880" y="1585800"/>
            <a:ext cx="368136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87560" y="1585800"/>
            <a:ext cx="368136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821880" y="3823200"/>
            <a:ext cx="368136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687560" y="3823200"/>
            <a:ext cx="368136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23F1CE-3C71-48F9-A815-D15F16AC2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21880" y="286920"/>
            <a:ext cx="7543800" cy="102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21880" y="1585800"/>
            <a:ext cx="242892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372480" y="1585800"/>
            <a:ext cx="242892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5923440" y="1585800"/>
            <a:ext cx="242892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821880" y="3823200"/>
            <a:ext cx="242892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372480" y="3823200"/>
            <a:ext cx="242892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5923440" y="3823200"/>
            <a:ext cx="242892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0267AC-671F-4882-8683-6BA63058C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57FB46-C13F-4A2B-9E81-0AA76A3A5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21880" y="286920"/>
            <a:ext cx="7543800" cy="102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0015A8-3D08-4FCD-A4F0-7130E540E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21880" y="286920"/>
            <a:ext cx="7543800" cy="102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821880" y="1585800"/>
            <a:ext cx="754380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A80AA5-2CC6-4B6A-965C-9B28BFD23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21880" y="286920"/>
            <a:ext cx="7543800" cy="102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21880" y="1585800"/>
            <a:ext cx="754380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96D4EC-35DE-47B5-B3B3-82AF2BAD8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21880" y="286920"/>
            <a:ext cx="7543800" cy="102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21880" y="1585800"/>
            <a:ext cx="368136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87560" y="1585800"/>
            <a:ext cx="368136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D05EFC-171C-449A-8303-E7D0D2D51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21880" y="286920"/>
            <a:ext cx="7543800" cy="102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849290-F159-4576-87A6-1BD370F79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821880" y="286920"/>
            <a:ext cx="7543800" cy="47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7026E6-914A-4FD8-95AA-9D17A5D4E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21880" y="286920"/>
            <a:ext cx="7543800" cy="102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21880" y="1585800"/>
            <a:ext cx="368136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87560" y="1585800"/>
            <a:ext cx="368136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821880" y="3823200"/>
            <a:ext cx="368136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6680B8-6285-4CFE-A4C4-B0801C32A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21880" y="286920"/>
            <a:ext cx="7543800" cy="102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21880" y="1585800"/>
            <a:ext cx="368136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87560" y="1585800"/>
            <a:ext cx="368136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687560" y="3823200"/>
            <a:ext cx="368136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0AA36F-76C8-4129-AAF5-9BFE2FE84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21880" y="286920"/>
            <a:ext cx="7543800" cy="102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821880" y="1585800"/>
            <a:ext cx="368136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87560" y="1585800"/>
            <a:ext cx="368136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821880" y="3823200"/>
            <a:ext cx="754380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659E3E-ABCD-4098-9735-6AE8B65E5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21880" y="286920"/>
            <a:ext cx="7543800" cy="102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821880" y="1585800"/>
            <a:ext cx="754380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821880" y="3823200"/>
            <a:ext cx="754380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4A07F4-8028-4614-8510-185C77AEE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21880" y="286920"/>
            <a:ext cx="7543800" cy="102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21880" y="1585800"/>
            <a:ext cx="368136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87560" y="1585800"/>
            <a:ext cx="368136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21880" y="3823200"/>
            <a:ext cx="368136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687560" y="3823200"/>
            <a:ext cx="368136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9D3FBB-FAB2-4061-B967-C283C3AEE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21880" y="286920"/>
            <a:ext cx="7543800" cy="47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B88411-4B55-4825-A001-AE33986DB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21880" y="286920"/>
            <a:ext cx="7543800" cy="102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821880" y="1585800"/>
            <a:ext cx="242892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372480" y="1585800"/>
            <a:ext cx="242892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5923440" y="1585800"/>
            <a:ext cx="242892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821880" y="3823200"/>
            <a:ext cx="242892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372480" y="3823200"/>
            <a:ext cx="242892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5923440" y="3823200"/>
            <a:ext cx="242892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E0A2C5-B626-46C8-8420-672E0A5E8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E36376-19E6-47D0-A08E-5EE2206A1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21880" y="286920"/>
            <a:ext cx="7543800" cy="102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821880" y="1585800"/>
            <a:ext cx="754380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F18B01-DFAF-48D7-A9B5-0B8211C60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21880" y="286920"/>
            <a:ext cx="7543800" cy="102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21880" y="1585800"/>
            <a:ext cx="754380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9E9BFA-4599-470F-AD8B-BA107C6AE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21880" y="286920"/>
            <a:ext cx="7543800" cy="102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821880" y="1585800"/>
            <a:ext cx="368136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87560" y="1585800"/>
            <a:ext cx="368136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B938CA-82C8-42EC-B01E-17042A29F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21880" y="286920"/>
            <a:ext cx="7543800" cy="102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1F154A-72DF-4396-A3DB-F394517D5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821880" y="286920"/>
            <a:ext cx="7543800" cy="47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8E7E76-4180-44B0-9CAA-7C880DD4D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21880" y="286920"/>
            <a:ext cx="7543800" cy="102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21880" y="1585800"/>
            <a:ext cx="368136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87560" y="1585800"/>
            <a:ext cx="368136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821880" y="3823200"/>
            <a:ext cx="368136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DD0C0E-C351-4EAC-B1D0-3B71B0A5B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21880" y="286920"/>
            <a:ext cx="7543800" cy="102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821880" y="1585800"/>
            <a:ext cx="368136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87560" y="1585800"/>
            <a:ext cx="368136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87560" y="3823200"/>
            <a:ext cx="368136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006A9C-A758-4382-A4D1-D193B94A7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21880" y="286920"/>
            <a:ext cx="7543800" cy="102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821880" y="1585800"/>
            <a:ext cx="368136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87560" y="1585800"/>
            <a:ext cx="368136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821880" y="3823200"/>
            <a:ext cx="754380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DF2401-2CCB-4A54-A9F5-0E1165A23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1880" y="286920"/>
            <a:ext cx="7543800" cy="102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21880" y="1585800"/>
            <a:ext cx="368136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7560" y="1585800"/>
            <a:ext cx="368136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821880" y="3823200"/>
            <a:ext cx="368136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39323F-55F1-4AE2-89B9-95637D3DB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21880" y="286920"/>
            <a:ext cx="7543800" cy="102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821880" y="1585800"/>
            <a:ext cx="754380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821880" y="3823200"/>
            <a:ext cx="754380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FB7A82-94FB-4A7D-B665-8C9A92E6D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21880" y="286920"/>
            <a:ext cx="7543800" cy="102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21880" y="1585800"/>
            <a:ext cx="368136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87560" y="1585800"/>
            <a:ext cx="368136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21880" y="3823200"/>
            <a:ext cx="368136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87560" y="3823200"/>
            <a:ext cx="368136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39DB77-A681-4FA7-8F99-FC4FB95E8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21880" y="286920"/>
            <a:ext cx="7543800" cy="102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821880" y="1585800"/>
            <a:ext cx="242892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372480" y="1585800"/>
            <a:ext cx="242892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5923440" y="1585800"/>
            <a:ext cx="242892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821880" y="3823200"/>
            <a:ext cx="242892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372480" y="3823200"/>
            <a:ext cx="242892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5923440" y="3823200"/>
            <a:ext cx="242892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F194B2-2403-4E0E-A517-002F95DEB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2DB307-7C2B-4DDB-883F-AFB23C4A4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21880" y="286920"/>
            <a:ext cx="7543800" cy="102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821880" y="1585800"/>
            <a:ext cx="754380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A33CD0-A739-4DE3-803A-10393F3A6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21880" y="286920"/>
            <a:ext cx="7543800" cy="102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21880" y="1585800"/>
            <a:ext cx="754380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9FAA13-429E-4481-AE3D-5D468971E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21880" y="286920"/>
            <a:ext cx="7543800" cy="102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21880" y="1585800"/>
            <a:ext cx="368136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87560" y="1585800"/>
            <a:ext cx="368136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2EE339-EC4C-49F4-9464-F093B1261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21880" y="286920"/>
            <a:ext cx="7543800" cy="102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5746CC-47A4-483B-A746-AA9DE5390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821880" y="286920"/>
            <a:ext cx="7543800" cy="47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A10B59-28DC-4F19-8F4C-0D91229E4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821880" y="286920"/>
            <a:ext cx="7543800" cy="102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21880" y="1585800"/>
            <a:ext cx="368136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87560" y="1585800"/>
            <a:ext cx="368136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821880" y="3823200"/>
            <a:ext cx="368136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57A893-5DFC-4D80-BE0F-FCC2FF2BE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1880" y="286920"/>
            <a:ext cx="7543800" cy="102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21880" y="1585800"/>
            <a:ext cx="368136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7560" y="1585800"/>
            <a:ext cx="368136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7560" y="3823200"/>
            <a:ext cx="368136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C8D9EF-B35F-4B5A-A575-C472422E1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21880" y="286920"/>
            <a:ext cx="7543800" cy="102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821880" y="1585800"/>
            <a:ext cx="368136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87560" y="1585800"/>
            <a:ext cx="368136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87560" y="3823200"/>
            <a:ext cx="368136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DED495-7AA7-4469-A3AA-5232CA5E5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21880" y="286920"/>
            <a:ext cx="7543800" cy="102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821880" y="1585800"/>
            <a:ext cx="368136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87560" y="1585800"/>
            <a:ext cx="368136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821880" y="3823200"/>
            <a:ext cx="754380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5FBF8F-176F-478E-B2BC-F11BD12C1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21880" y="286920"/>
            <a:ext cx="7543800" cy="102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821880" y="1585800"/>
            <a:ext cx="754380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821880" y="3823200"/>
            <a:ext cx="754380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31D4EF-6860-43D4-B107-EE9B075AA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21880" y="286920"/>
            <a:ext cx="7543800" cy="102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21880" y="1585800"/>
            <a:ext cx="368136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87560" y="1585800"/>
            <a:ext cx="368136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21880" y="3823200"/>
            <a:ext cx="368136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87560" y="3823200"/>
            <a:ext cx="368136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1FC226-DF62-4A4E-94F6-C402C9CAC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21880" y="286920"/>
            <a:ext cx="7543800" cy="102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821880" y="1585800"/>
            <a:ext cx="242892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72480" y="1585800"/>
            <a:ext cx="242892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23440" y="1585800"/>
            <a:ext cx="242892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821880" y="3823200"/>
            <a:ext cx="242892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72480" y="3823200"/>
            <a:ext cx="242892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23440" y="3823200"/>
            <a:ext cx="242892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0CB784-F7A4-4815-B3F1-B3EDA2B1D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4EC78F-9FBD-4E2F-825B-CC227DD6B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21880" y="286920"/>
            <a:ext cx="7543800" cy="102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subTitle"/>
          </p:nvPr>
        </p:nvSpPr>
        <p:spPr>
          <a:xfrm>
            <a:off x="821880" y="1585800"/>
            <a:ext cx="754380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BB1A5D-6AF6-4831-AD9C-468408387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21880" y="286920"/>
            <a:ext cx="7543800" cy="102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821880" y="1585800"/>
            <a:ext cx="754380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9BB58D-89FC-423D-80CD-8F8095EE1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21880" y="286920"/>
            <a:ext cx="7543800" cy="102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821880" y="1585800"/>
            <a:ext cx="368136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87560" y="1585800"/>
            <a:ext cx="368136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296640-09BB-4613-ACBC-77F7CA570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21880" y="286920"/>
            <a:ext cx="7543800" cy="102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9D46FA-0DE1-4F44-BFC1-4780CE2A8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1880" y="286920"/>
            <a:ext cx="7543800" cy="102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21880" y="1585800"/>
            <a:ext cx="368136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7560" y="1585800"/>
            <a:ext cx="368136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821880" y="3823200"/>
            <a:ext cx="754380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68F361-C469-4988-8C53-55CCB0E3A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ubTitle"/>
          </p:nvPr>
        </p:nvSpPr>
        <p:spPr>
          <a:xfrm>
            <a:off x="821880" y="286920"/>
            <a:ext cx="7543800" cy="47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9A4D69-EF64-4247-A6C4-048D7FEE7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21880" y="286920"/>
            <a:ext cx="7543800" cy="102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821880" y="1585800"/>
            <a:ext cx="368136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87560" y="1585800"/>
            <a:ext cx="368136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821880" y="3823200"/>
            <a:ext cx="368136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08895C-8DF2-462B-B7F3-129AFB179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821880" y="286920"/>
            <a:ext cx="7543800" cy="102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821880" y="1585800"/>
            <a:ext cx="368136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87560" y="1585800"/>
            <a:ext cx="368136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687560" y="3823200"/>
            <a:ext cx="368136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8154FB-AE31-428D-A33F-9315DC22E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821880" y="286920"/>
            <a:ext cx="7543800" cy="102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821880" y="1585800"/>
            <a:ext cx="368136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87560" y="1585800"/>
            <a:ext cx="368136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821880" y="3823200"/>
            <a:ext cx="754380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F7F296-5BDE-462F-A859-BE53266E3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821880" y="286920"/>
            <a:ext cx="7543800" cy="102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821880" y="1585800"/>
            <a:ext cx="754380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821880" y="3823200"/>
            <a:ext cx="754380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4825F9-1C8D-4E1C-AD46-2A43A27BD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21880" y="286920"/>
            <a:ext cx="7543800" cy="102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821880" y="1585800"/>
            <a:ext cx="368136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87560" y="1585800"/>
            <a:ext cx="368136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821880" y="3823200"/>
            <a:ext cx="368136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687560" y="3823200"/>
            <a:ext cx="368136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6DB7F3-76F1-4870-AE6F-8D4F15159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821880" y="286920"/>
            <a:ext cx="7543800" cy="102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821880" y="1585800"/>
            <a:ext cx="242892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3372480" y="1585800"/>
            <a:ext cx="242892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5923440" y="1585800"/>
            <a:ext cx="242892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821880" y="3823200"/>
            <a:ext cx="242892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72" name="PlaceHolder 6"/>
          <p:cNvSpPr>
            <a:spLocks noGrp="1"/>
          </p:cNvSpPr>
          <p:nvPr>
            <p:ph/>
          </p:nvPr>
        </p:nvSpPr>
        <p:spPr>
          <a:xfrm>
            <a:off x="3372480" y="3823200"/>
            <a:ext cx="242892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73" name="PlaceHolder 7"/>
          <p:cNvSpPr>
            <a:spLocks noGrp="1"/>
          </p:cNvSpPr>
          <p:nvPr>
            <p:ph/>
          </p:nvPr>
        </p:nvSpPr>
        <p:spPr>
          <a:xfrm>
            <a:off x="5923440" y="3823200"/>
            <a:ext cx="242892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A1B793-A616-48AD-9C42-6C38DC78E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58b6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Rectangle 8"/>
          <p:cNvSpPr/>
          <p:nvPr/>
        </p:nvSpPr>
        <p:spPr>
          <a:xfrm>
            <a:off x="0" y="6334200"/>
            <a:ext cx="9144000" cy="66600"/>
          </a:xfrm>
          <a:prstGeom prst="rect">
            <a:avLst/>
          </a:prstGeom>
          <a:solidFill>
            <a:srgbClr val="3494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1880" y="286920"/>
            <a:ext cx="7543800" cy="102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21880" y="1585800"/>
            <a:ext cx="754380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3494ba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d62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3494ba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3494ba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CD4D97D-AFFD-4C71-929B-0DE8A6C1FF64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Straight Connector 9"/>
          <p:cNvSpPr/>
          <p:nvPr/>
        </p:nvSpPr>
        <p:spPr>
          <a:xfrm>
            <a:off x="895320" y="1449360"/>
            <a:ext cx="7475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ftr" idx="3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" name="Obrázek 13" descr=""/>
          <p:cNvPicPr/>
          <p:nvPr/>
        </p:nvPicPr>
        <p:blipFill>
          <a:blip r:embed="rId2"/>
          <a:stretch/>
        </p:blipFill>
        <p:spPr>
          <a:xfrm>
            <a:off x="7742160" y="5676840"/>
            <a:ext cx="997200" cy="993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58b6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ectangle 8"/>
          <p:cNvSpPr/>
          <p:nvPr/>
        </p:nvSpPr>
        <p:spPr>
          <a:xfrm>
            <a:off x="0" y="6334200"/>
            <a:ext cx="9144000" cy="66600"/>
          </a:xfrm>
          <a:prstGeom prst="rect">
            <a:avLst/>
          </a:prstGeom>
          <a:solidFill>
            <a:srgbClr val="3494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Straight Connector 9"/>
          <p:cNvSpPr/>
          <p:nvPr/>
        </p:nvSpPr>
        <p:spPr>
          <a:xfrm>
            <a:off x="895320" y="1449360"/>
            <a:ext cx="7475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Obrázek 13" descr=""/>
          <p:cNvPicPr/>
          <p:nvPr/>
        </p:nvPicPr>
        <p:blipFill>
          <a:blip r:embed="rId2"/>
          <a:stretch/>
        </p:blipFill>
        <p:spPr>
          <a:xfrm>
            <a:off x="7742160" y="5676840"/>
            <a:ext cx="997200" cy="99396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6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58b6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3494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traight Connector 8"/>
          <p:cNvSpPr/>
          <p:nvPr/>
        </p:nvSpPr>
        <p:spPr>
          <a:xfrm>
            <a:off x="906480" y="4343400"/>
            <a:ext cx="740556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Obrázek 13" descr=""/>
          <p:cNvPicPr/>
          <p:nvPr/>
        </p:nvPicPr>
        <p:blipFill>
          <a:blip r:embed="rId3"/>
          <a:stretch/>
        </p:blipFill>
        <p:spPr>
          <a:xfrm>
            <a:off x="7742160" y="5676840"/>
            <a:ext cx="997200" cy="99396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21880" y="286920"/>
            <a:ext cx="7543800" cy="102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821880" y="1585800"/>
            <a:ext cx="754380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3494ba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d62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3494ba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3494ba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50A1BE6-859D-4CE6-A6F8-2FDAFC85BC43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58b6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Rectangle 8"/>
          <p:cNvSpPr/>
          <p:nvPr/>
        </p:nvSpPr>
        <p:spPr>
          <a:xfrm>
            <a:off x="0" y="6334200"/>
            <a:ext cx="9144000" cy="66600"/>
          </a:xfrm>
          <a:prstGeom prst="rect">
            <a:avLst/>
          </a:prstGeom>
          <a:solidFill>
            <a:srgbClr val="3494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Straight Connector 9"/>
          <p:cNvSpPr/>
          <p:nvPr/>
        </p:nvSpPr>
        <p:spPr>
          <a:xfrm>
            <a:off x="895320" y="1449360"/>
            <a:ext cx="7475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Obrázek 13" descr=""/>
          <p:cNvPicPr/>
          <p:nvPr/>
        </p:nvPicPr>
        <p:blipFill>
          <a:blip r:embed="rId2"/>
          <a:stretch/>
        </p:blipFill>
        <p:spPr>
          <a:xfrm>
            <a:off x="7742160" y="5676840"/>
            <a:ext cx="997200" cy="993960"/>
          </a:xfrm>
          <a:prstGeom prst="rect">
            <a:avLst/>
          </a:prstGeom>
          <a:ln w="0">
            <a:noFill/>
          </a:ln>
        </p:spPr>
      </p:pic>
      <p:pic>
        <p:nvPicPr>
          <p:cNvPr id="98" name="Obrázek 10" descr=""/>
          <p:cNvPicPr/>
          <p:nvPr/>
        </p:nvPicPr>
        <p:blipFill>
          <a:blip r:embed="rId3"/>
          <a:stretch/>
        </p:blipFill>
        <p:spPr>
          <a:xfrm>
            <a:off x="7742160" y="5676840"/>
            <a:ext cx="997200" cy="99396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21880" y="286920"/>
            <a:ext cx="7543800" cy="102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821880" y="1585800"/>
            <a:ext cx="754380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3494ba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d62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3494ba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3494ba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dt" idx="7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ftr" idx="8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sldNum" idx="9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35F007-0E99-40D0-8266-B5EE6DA14549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58b6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Rectangle 8"/>
          <p:cNvSpPr/>
          <p:nvPr/>
        </p:nvSpPr>
        <p:spPr>
          <a:xfrm>
            <a:off x="0" y="6334200"/>
            <a:ext cx="9144000" cy="66600"/>
          </a:xfrm>
          <a:prstGeom prst="rect">
            <a:avLst/>
          </a:prstGeom>
          <a:solidFill>
            <a:srgbClr val="3494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Straight Connector 9"/>
          <p:cNvSpPr/>
          <p:nvPr/>
        </p:nvSpPr>
        <p:spPr>
          <a:xfrm>
            <a:off x="895320" y="1449360"/>
            <a:ext cx="7475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3" name="Obrázek 13" descr=""/>
          <p:cNvPicPr/>
          <p:nvPr/>
        </p:nvPicPr>
        <p:blipFill>
          <a:blip r:embed="rId2"/>
          <a:stretch/>
        </p:blipFill>
        <p:spPr>
          <a:xfrm>
            <a:off x="7742160" y="5676840"/>
            <a:ext cx="997200" cy="993960"/>
          </a:xfrm>
          <a:prstGeom prst="rect">
            <a:avLst/>
          </a:prstGeom>
          <a:ln w="0">
            <a:noFill/>
          </a:ln>
        </p:spPr>
      </p:pic>
      <p:pic>
        <p:nvPicPr>
          <p:cNvPr id="144" name="Obrázek 10" descr=""/>
          <p:cNvPicPr/>
          <p:nvPr/>
        </p:nvPicPr>
        <p:blipFill>
          <a:blip r:embed="rId3"/>
          <a:stretch/>
        </p:blipFill>
        <p:spPr>
          <a:xfrm>
            <a:off x="7742160" y="5676840"/>
            <a:ext cx="997200" cy="99396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21880" y="286920"/>
            <a:ext cx="7543800" cy="102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821880" y="1585800"/>
            <a:ext cx="754380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3494ba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d62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3494ba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3494ba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dt" idx="10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9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9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ftr" idx="11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sldNum" idx="12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49979E-E73D-4949-AB5F-1E5192F248E7}" type="slidenum">
              <a:rPr b="0" lang="cs-CZ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58b6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Rectangle 8"/>
          <p:cNvSpPr/>
          <p:nvPr/>
        </p:nvSpPr>
        <p:spPr>
          <a:xfrm>
            <a:off x="0" y="6334200"/>
            <a:ext cx="9144000" cy="66600"/>
          </a:xfrm>
          <a:prstGeom prst="rect">
            <a:avLst/>
          </a:prstGeom>
          <a:solidFill>
            <a:srgbClr val="3494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Straight Connector 9"/>
          <p:cNvSpPr/>
          <p:nvPr/>
        </p:nvSpPr>
        <p:spPr>
          <a:xfrm>
            <a:off x="895320" y="1449360"/>
            <a:ext cx="7475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9" name="Obrázek 13" descr=""/>
          <p:cNvPicPr/>
          <p:nvPr/>
        </p:nvPicPr>
        <p:blipFill>
          <a:blip r:embed="rId2"/>
          <a:stretch/>
        </p:blipFill>
        <p:spPr>
          <a:xfrm>
            <a:off x="7742160" y="5676840"/>
            <a:ext cx="997200" cy="993960"/>
          </a:xfrm>
          <a:prstGeom prst="rect">
            <a:avLst/>
          </a:prstGeom>
          <a:ln w="0">
            <a:noFill/>
          </a:ln>
        </p:spPr>
      </p:pic>
      <p:pic>
        <p:nvPicPr>
          <p:cNvPr id="190" name="Obrázek 10" descr=""/>
          <p:cNvPicPr/>
          <p:nvPr/>
        </p:nvPicPr>
        <p:blipFill>
          <a:blip r:embed="rId3"/>
          <a:stretch/>
        </p:blipFill>
        <p:spPr>
          <a:xfrm>
            <a:off x="7742160" y="5676840"/>
            <a:ext cx="997200" cy="993960"/>
          </a:xfrm>
          <a:prstGeom prst="rect">
            <a:avLst/>
          </a:prstGeom>
          <a:ln w="0">
            <a:noFill/>
          </a:ln>
        </p:spPr>
      </p:pic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21880" y="286920"/>
            <a:ext cx="7543800" cy="102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821880" y="1585800"/>
            <a:ext cx="754380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3494ba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d62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3494ba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3494ba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F4CB03-D056-48F3-82DB-3BAD9F466F50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58b6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Rectangle 8"/>
          <p:cNvSpPr/>
          <p:nvPr/>
        </p:nvSpPr>
        <p:spPr>
          <a:xfrm>
            <a:off x="0" y="6334200"/>
            <a:ext cx="9144000" cy="66600"/>
          </a:xfrm>
          <a:prstGeom prst="rect">
            <a:avLst/>
          </a:prstGeom>
          <a:solidFill>
            <a:srgbClr val="3494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Straight Connector 9"/>
          <p:cNvSpPr/>
          <p:nvPr/>
        </p:nvSpPr>
        <p:spPr>
          <a:xfrm>
            <a:off x="895320" y="1449360"/>
            <a:ext cx="7475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5" name="Obrázek 13" descr=""/>
          <p:cNvPicPr/>
          <p:nvPr/>
        </p:nvPicPr>
        <p:blipFill>
          <a:blip r:embed="rId2"/>
          <a:stretch/>
        </p:blipFill>
        <p:spPr>
          <a:xfrm>
            <a:off x="7742160" y="5676840"/>
            <a:ext cx="997200" cy="993960"/>
          </a:xfrm>
          <a:prstGeom prst="rect">
            <a:avLst/>
          </a:prstGeom>
          <a:ln w="0">
            <a:noFill/>
          </a:ln>
        </p:spPr>
      </p:pic>
      <p:sp>
        <p:nvSpPr>
          <p:cNvPr id="236" name="Rectangle 7"/>
          <p:cNvSpPr/>
          <p:nvPr/>
        </p:nvSpPr>
        <p:spPr>
          <a:xfrm>
            <a:off x="0" y="0"/>
            <a:ext cx="3038400" cy="6858000"/>
          </a:xfrm>
          <a:prstGeom prst="rect">
            <a:avLst/>
          </a:prstGeom>
          <a:solidFill>
            <a:srgbClr val="58b6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Rectangle 8"/>
          <p:cNvSpPr/>
          <p:nvPr/>
        </p:nvSpPr>
        <p:spPr>
          <a:xfrm>
            <a:off x="3030480" y="0"/>
            <a:ext cx="47520" cy="6858000"/>
          </a:xfrm>
          <a:prstGeom prst="rect">
            <a:avLst/>
          </a:prstGeom>
          <a:solidFill>
            <a:srgbClr val="3494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8" name="Obrázek 12" descr=""/>
          <p:cNvPicPr/>
          <p:nvPr/>
        </p:nvPicPr>
        <p:blipFill>
          <a:blip r:embed="rId3"/>
          <a:stretch/>
        </p:blipFill>
        <p:spPr>
          <a:xfrm>
            <a:off x="7742160" y="5676840"/>
            <a:ext cx="997200" cy="99396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21880" y="286920"/>
            <a:ext cx="7543800" cy="102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821880" y="1585800"/>
            <a:ext cx="754380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3494ba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d62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3494ba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3494ba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348840" y="6459480"/>
            <a:ext cx="1963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3600360" y="6459480"/>
            <a:ext cx="348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373545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7DF9DC-45BB-4BC4-9C5F-6EB98DB330CA}" type="slidenum">
              <a:rPr b="0" lang="en-US" sz="1000" spc="-1" strike="noStrike">
                <a:solidFill>
                  <a:srgbClr val="373545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58b6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Rectangle 8"/>
          <p:cNvSpPr/>
          <p:nvPr/>
        </p:nvSpPr>
        <p:spPr>
          <a:xfrm>
            <a:off x="0" y="6334200"/>
            <a:ext cx="9144000" cy="66600"/>
          </a:xfrm>
          <a:prstGeom prst="rect">
            <a:avLst/>
          </a:prstGeom>
          <a:solidFill>
            <a:srgbClr val="3494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Straight Connector 9"/>
          <p:cNvSpPr/>
          <p:nvPr/>
        </p:nvSpPr>
        <p:spPr>
          <a:xfrm>
            <a:off x="895320" y="1449360"/>
            <a:ext cx="7475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3" name="Obrázek 13" descr=""/>
          <p:cNvPicPr/>
          <p:nvPr/>
        </p:nvPicPr>
        <p:blipFill>
          <a:blip r:embed="rId2"/>
          <a:stretch/>
        </p:blipFill>
        <p:spPr>
          <a:xfrm>
            <a:off x="7742160" y="5676840"/>
            <a:ext cx="997200" cy="993960"/>
          </a:xfrm>
          <a:prstGeom prst="rect">
            <a:avLst/>
          </a:prstGeom>
          <a:ln w="0">
            <a:noFill/>
          </a:ln>
        </p:spPr>
      </p:pic>
      <p:sp>
        <p:nvSpPr>
          <p:cNvPr id="284" name="Rectangle 7"/>
          <p:cNvSpPr/>
          <p:nvPr/>
        </p:nvSpPr>
        <p:spPr>
          <a:xfrm>
            <a:off x="0" y="4952880"/>
            <a:ext cx="9142560" cy="1905120"/>
          </a:xfrm>
          <a:prstGeom prst="rect">
            <a:avLst/>
          </a:prstGeom>
          <a:solidFill>
            <a:srgbClr val="58b6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Rectangle 8"/>
          <p:cNvSpPr/>
          <p:nvPr/>
        </p:nvSpPr>
        <p:spPr>
          <a:xfrm>
            <a:off x="0" y="4915080"/>
            <a:ext cx="9142560" cy="63360"/>
          </a:xfrm>
          <a:prstGeom prst="rect">
            <a:avLst/>
          </a:prstGeom>
          <a:solidFill>
            <a:srgbClr val="3494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6" name="Obrázek 12" descr=""/>
          <p:cNvPicPr/>
          <p:nvPr/>
        </p:nvPicPr>
        <p:blipFill>
          <a:blip r:embed="rId3"/>
          <a:stretch/>
        </p:blipFill>
        <p:spPr>
          <a:xfrm>
            <a:off x="7742160" y="5676840"/>
            <a:ext cx="997200" cy="993960"/>
          </a:xfrm>
          <a:prstGeom prst="rect">
            <a:avLst/>
          </a:prstGeom>
          <a:ln w="0">
            <a:noFill/>
          </a:ln>
        </p:spPr>
      </p:pic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21880" y="286920"/>
            <a:ext cx="7543800" cy="102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821880" y="1585800"/>
            <a:ext cx="754380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3494ba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d62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3494ba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3494ba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19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0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1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59BA677-F80B-4E7B-99D2-6EA4075A7F20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58b6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Rectangle 8"/>
          <p:cNvSpPr/>
          <p:nvPr/>
        </p:nvSpPr>
        <p:spPr>
          <a:xfrm>
            <a:off x="0" y="6334200"/>
            <a:ext cx="9144000" cy="66600"/>
          </a:xfrm>
          <a:prstGeom prst="rect">
            <a:avLst/>
          </a:prstGeom>
          <a:solidFill>
            <a:srgbClr val="3494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Straight Connector 9"/>
          <p:cNvSpPr/>
          <p:nvPr/>
        </p:nvSpPr>
        <p:spPr>
          <a:xfrm>
            <a:off x="895320" y="1449360"/>
            <a:ext cx="7475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1" name="Obrázek 13" descr=""/>
          <p:cNvPicPr/>
          <p:nvPr/>
        </p:nvPicPr>
        <p:blipFill>
          <a:blip r:embed="rId2"/>
          <a:stretch/>
        </p:blipFill>
        <p:spPr>
          <a:xfrm>
            <a:off x="7742160" y="5676840"/>
            <a:ext cx="997200" cy="993960"/>
          </a:xfrm>
          <a:prstGeom prst="rect">
            <a:avLst/>
          </a:prstGeom>
          <a:ln w="0">
            <a:noFill/>
          </a:ln>
        </p:spPr>
      </p:pic>
      <p:pic>
        <p:nvPicPr>
          <p:cNvPr id="332" name="Obrázek 10" descr=""/>
          <p:cNvPicPr/>
          <p:nvPr/>
        </p:nvPicPr>
        <p:blipFill>
          <a:blip r:embed="rId3"/>
          <a:stretch/>
        </p:blipFill>
        <p:spPr>
          <a:xfrm>
            <a:off x="7742160" y="5676840"/>
            <a:ext cx="997200" cy="993960"/>
          </a:xfrm>
          <a:prstGeom prst="rect">
            <a:avLst/>
          </a:prstGeom>
          <a:ln w="0">
            <a:noFill/>
          </a:ln>
        </p:spPr>
      </p:pic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21880" y="286920"/>
            <a:ext cx="7543800" cy="102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821880" y="1585800"/>
            <a:ext cx="754380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3494ba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d62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3494ba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3494ba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 type="dt" idx="22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 type="ftr" idx="23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 type="sldNum" idx="24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4710745-3BD3-4FF1-A811-59C45E2A5EE7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21880" y="758880"/>
            <a:ext cx="7543800" cy="3565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800" spc="-1" strike="noStrike">
                <a:solidFill>
                  <a:srgbClr val="000000"/>
                </a:solidFill>
                <a:latin typeface="Arial"/>
              </a:rPr>
              <a:t>Pohled odborového svazu na vývoj odměňování v regionálním školství</a:t>
            </a:r>
            <a:endParaRPr b="1" lang="en-US" sz="4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825120" y="44557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2400" spc="-1" strike="noStrike">
              <a:solidFill>
                <a:srgbClr val="37354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21880" y="286920"/>
            <a:ext cx="7543800" cy="102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Platový nárůst pro pedagogické pracovníky</a:t>
            </a:r>
            <a:br>
              <a:rPr sz="2400"/>
            </a:b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podle vládního programového prohlášení</a:t>
            </a: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graphicFrame>
        <p:nvGraphicFramePr>
          <p:cNvPr id="377" name=""/>
          <p:cNvGraphicFramePr/>
          <p:nvPr/>
        </p:nvGraphicFramePr>
        <p:xfrm>
          <a:off x="1674720" y="1816200"/>
          <a:ext cx="6058080" cy="2917800"/>
        </p:xfrm>
        <a:graphic>
          <a:graphicData uri="http://schemas.openxmlformats.org/drawingml/2006/table">
            <a:tbl>
              <a:tblPr/>
              <a:tblGrid>
                <a:gridCol w="1006560"/>
                <a:gridCol w="722160"/>
                <a:gridCol w="720720"/>
                <a:gridCol w="722520"/>
                <a:gridCol w="720720"/>
                <a:gridCol w="722160"/>
                <a:gridCol w="720720"/>
                <a:gridCol w="722520"/>
              </a:tblGrid>
              <a:tr h="2966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3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3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3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3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3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3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3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3"/>
                    </a:solidFill>
                  </a:tcPr>
                </a:tc>
              </a:tr>
              <a:tr h="2844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3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3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3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3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3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3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3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3"/>
                    </a:solidFill>
                  </a:tcPr>
                </a:tc>
              </a:tr>
              <a:tr h="296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ům. pla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3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3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3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 2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3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 2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3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 27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3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 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3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 34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3"/>
                    </a:solidFill>
                  </a:tcPr>
                </a:tc>
              </a:tr>
              <a:tr h="2844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3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3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3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3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3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3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3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3"/>
                    </a:solidFill>
                  </a:tcPr>
                </a:tc>
              </a:tr>
              <a:tr h="296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árůst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3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3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3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3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3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3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3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3"/>
                    </a:solidFill>
                  </a:tcPr>
                </a:tc>
              </a:tr>
              <a:tr h="2826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3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3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3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3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3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3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3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3"/>
                    </a:solidFill>
                  </a:tcPr>
                </a:tc>
              </a:tr>
              <a:tr h="2844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3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3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3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3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3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3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3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3"/>
                    </a:solidFill>
                  </a:tcPr>
                </a:tc>
              </a:tr>
              <a:tr h="296640">
                <a:tc gridSpan="3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ce k průměrné mzdě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2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3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4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3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1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3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6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3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3"/>
                    </a:solidFill>
                  </a:tcPr>
                </a:tc>
              </a:tr>
              <a:tr h="298440">
                <a:tc gridSpan="2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 ČR (= 100 %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3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3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3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3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3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3"/>
                    </a:solidFill>
                  </a:tcPr>
                </a:tc>
              </a:tr>
              <a:tr h="297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3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3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3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3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3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3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3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78" name=""/>
          <p:cNvGraphicFramePr/>
          <p:nvPr/>
        </p:nvGraphicFramePr>
        <p:xfrm>
          <a:off x="1708200" y="5035680"/>
          <a:ext cx="5727600" cy="720720"/>
        </p:xfrm>
        <a:graphic>
          <a:graphicData uri="http://schemas.openxmlformats.org/drawingml/2006/table">
            <a:tbl>
              <a:tblPr/>
              <a:tblGrid>
                <a:gridCol w="2678040"/>
                <a:gridCol w="609480"/>
                <a:gridCol w="609840"/>
                <a:gridCol w="610920"/>
                <a:gridCol w="609840"/>
                <a:gridCol w="609480"/>
              </a:tblGrid>
              <a:tr h="2397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ládní programové prohlášení uvádí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3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3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3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3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3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3"/>
                    </a:solidFill>
                  </a:tcPr>
                </a:tc>
              </a:tr>
              <a:tr h="241200">
                <a:tc gridSpan="6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"Prosadíme více peněz do školství tak, aby se platy učitelů a nepedagogů na konc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9760">
                <a:tc gridSpan="6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lebního období v roce 2021 dostaly minimálně na 150 % jejich výše pro rok 20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821880" y="286920"/>
            <a:ext cx="7543800" cy="102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380" name="Zástupný symbol pro obsah 2" descr=""/>
          <p:cNvPicPr/>
          <p:nvPr/>
        </p:nvPicPr>
        <p:blipFill>
          <a:blip r:embed="rId1"/>
          <a:stretch/>
        </p:blipFill>
        <p:spPr>
          <a:xfrm>
            <a:off x="297000" y="128520"/>
            <a:ext cx="8267400" cy="604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06040" y="-360"/>
            <a:ext cx="7543800" cy="102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4617b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382" name="Zástupný symbol pro obsah 5" descr=""/>
          <p:cNvPicPr/>
          <p:nvPr/>
        </p:nvPicPr>
        <p:blipFill>
          <a:blip r:embed="rId1"/>
          <a:stretch/>
        </p:blipFill>
        <p:spPr>
          <a:xfrm>
            <a:off x="393840" y="0"/>
            <a:ext cx="8370720" cy="588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21880" y="286920"/>
            <a:ext cx="7543800" cy="102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cs-CZ" sz="4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821880" y="1585800"/>
            <a:ext cx="754380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04040"/>
                </a:solidFill>
                <a:latin typeface="Arial"/>
              </a:rPr>
              <a:t>      </a:t>
            </a:r>
            <a:r>
              <a:rPr b="1" lang="cs-CZ" sz="2400" spc="-1" strike="noStrike">
                <a:solidFill>
                  <a:srgbClr val="404040"/>
                </a:solidFill>
                <a:latin typeface="Arial"/>
                <a:ea typeface="Arial"/>
              </a:rPr>
              <a:t>Děkuji za pozornost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404040"/>
                </a:solidFill>
                <a:latin typeface="Arial"/>
                <a:ea typeface="Arial"/>
              </a:rPr>
              <a:t>                                           </a:t>
            </a:r>
            <a:r>
              <a:rPr b="1" lang="cs-CZ" sz="2400" spc="-1" strike="noStrike">
                <a:solidFill>
                  <a:srgbClr val="404040"/>
                </a:solidFill>
                <a:latin typeface="Arial"/>
                <a:ea typeface="Arial"/>
              </a:rPr>
              <a:t>František Dobšík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9-03T16:46:31Z</dcterms:created>
  <dc:creator>Petr Pečenka</dc:creator>
  <dc:description/>
  <dc:language>en-US</dc:language>
  <cp:lastModifiedBy>František Dobšík</cp:lastModifiedBy>
  <dcterms:modified xsi:type="dcterms:W3CDTF">2019-10-14T11:28:00Z</dcterms:modified>
  <cp:revision>17</cp:revision>
  <dc:subject/>
  <dc:title>Prezentace aplikace PowerPoint</dc:title>
</cp:coreProperties>
</file>