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C67-36BB-4D60-A742-6729221F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373-FAA5-40FD-A117-99C45657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7CC-F2D9-4049-A6D6-7B43ADCF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775-F9E4-4050-A946-3E6B96BD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C5D43-60FE-4A8E-934B-1A8F5513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71F8E-BCF3-4896-8D83-CBBE231D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DF095-44F5-479C-980F-C27E9AF3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5E04B-F0B1-4916-AA58-BA25E1BE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BC7B8-D877-4976-A05D-CFAD03FE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125FD-3543-49D7-9D04-8379C24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F5D1A-3E9F-43FC-A3AD-3932D43B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C0F-04C5-4563-A04B-D197D683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EAD3D-25BD-4F85-8B92-4804FDDE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E5F80-B662-4EAF-9CA9-310CB40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96CD9-A10C-4ADD-9746-3496CD09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2A5AD-473A-425A-8651-90419DDA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376E6-E577-47F8-94FF-61DBD95D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7A95-DD26-44A7-8C47-C6B969C1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A470-721C-4A45-B2D1-B28B98FB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CF355-5283-4B6A-A92B-7C596CA6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D86A-2298-40BB-B67C-73310B3E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1955-1167-47B7-972E-4C1C215D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144-AC19-48A7-9B78-062725D5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A2EE-7015-41F8-8D30-757A4F88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DEE9-7878-4429-AC21-40380D8A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2C8B-F0CC-4B2F-8427-748BB669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5E7F-7E26-4E11-9B92-EB276CEE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F2BE-ABA1-46C5-BDDF-D6CCFB3F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141F-6AF2-477A-973C-716113F2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115C-EFEF-4C38-B30D-F443E7AD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8124F-AEFE-4AB8-97BC-9F17284F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5FBCD-6045-4F37-963D-F2105225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AF2AF-89D4-42E7-B961-B4E9141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E18-10C4-419C-A680-24CE791E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4C467B-C544-4994-8F34-552812ED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BFF82-0B8B-48C5-AAF3-37D2405F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BE69E-2C93-4B32-A60C-BB0EF2F4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8A6B4-6FCF-4A45-85EC-4E39EC6C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B0FB3-85C2-409A-97E7-CA0B375B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81522-CAAA-43E1-8761-E42F23F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7249A-1397-42D4-B1CD-068A0967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5E08D-1C43-4B4E-B2CD-A9C9FA5C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D23FF-76FF-4010-9735-97FF7091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33E-3F7B-4DFE-A439-2B3838C3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BD6-D3D7-438A-BBB3-9138AE09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B3E-A6F0-4F54-A33F-F9E04BD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D5A-1987-4B4C-B09C-5724E6E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E83-3255-4CA6-9F62-1E034A3D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D41B-0535-4E1E-88AC-03957DC2C04F}" type="slidenum">
              <a:rPr b="0" lang="cs-C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3540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římá spojovací čára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Elipsa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3540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E9C7-8728-4EE3-BC9C-095BE0B28867}" type="slidenum">
              <a:rPr b="0" lang="cs-C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římá spojovací čára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3540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EC5D-02A0-414D-8E3B-12A593CC79C1}" type="slidenum">
              <a:rPr b="0" lang="cs-C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římá spojovací čára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římá spojovací čára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3540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2C6D-A30F-4B28-A513-DB764A3C027B}" type="slidenum">
              <a:rPr b="0" lang="cs-C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26560" y="4149360"/>
            <a:ext cx="741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333a1d"/>
                </a:solidFill>
                <a:latin typeface="Calibri"/>
              </a:rPr>
              <a:t>Vlastislav Ouroda</a:t>
            </a:r>
            <a:endParaRPr b="0" lang="en-US" sz="2200" spc="-1" strike="noStrike">
              <a:solidFill>
                <a:srgbClr val="f3a44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3540a"/>
                </a:solidFill>
                <a:latin typeface="Times New Roman"/>
                <a:ea typeface="Times New Roman"/>
              </a:rPr>
              <a:t>Ministerstvo kultury ČR</a:t>
            </a:r>
            <a:endParaRPr b="0" lang="en-US" sz="22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69800" y="579600"/>
            <a:ext cx="7845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d7e0e"/>
                </a:solidFill>
                <a:latin typeface="Calibri"/>
              </a:rPr>
              <a:t>4.4 Zefektivnit využívání kulturního dědictví pro poskytování kulturních služeb obyvatelstvu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mapovat stávající využívání nemovitých památek a paměťových institucí pro poskytování kulturních služeb obyvatelům a navrhnout programy jeho zefektivnění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4.5 Posilovat roli kultury v politice vnějších vztahů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4.6 Ověřit Public Private Partnership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5 Využití nástrojů eCulture pro rozvoj kultury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jednodušit přístup k možnostem podpory 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jistit přístup veřejnosti ke kulturnímu obsahu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6.1 Zefektivnit výkon veřejné správy v péči o památkový fond – </a:t>
            </a:r>
            <a:r>
              <a:rPr b="1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metodické akce MK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, činnost Památkové inspekce,…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vrhnout </a:t>
            </a:r>
            <a:r>
              <a:rPr b="1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nový památkový zákon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6.2 Zefektivnit výkon veřejné správy v péči o movité kulturní dědictví – počátek přípravy </a:t>
            </a:r>
            <a:r>
              <a:rPr b="1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muzejního zákona 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6.4 Provázat výnosy z cestovního ruchu s náklady na uchování kulturního dědictví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– analýzy KPMG,…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91" name="Nadpis 2" descr=""/>
          <p:cNvPicPr/>
          <p:nvPr/>
        </p:nvPicPr>
        <p:blipFill>
          <a:blip r:embed="rId1"/>
          <a:stretch/>
        </p:blipFill>
        <p:spPr>
          <a:xfrm>
            <a:off x="334800" y="-55440"/>
            <a:ext cx="83520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avrhnout funkční model kooperativního 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víceletého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financování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(zachovat úspěšné programy, modifikace)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víjet mimorozpočtové zdroje na podporu kultury, posilovat soukromou podporu kultury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Pokračovat v nastavení platového ocenění zaměstnanců kulturního sektoru s ohledem na společenský význam jejich práce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jistit absorpční kapacitu pro obnovu a využití kulturního dědictví z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evropských fondů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základě diskuse s odbornou veřejností stanovit optimální postup v péči o památky po nepřijetí ZPF a v souvislosti s přípravou nového stavebního zákona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 podporou odborné veřejnosti dosáhnout stanovených cílů koncepce rozvoje muzejnictví, diskuse o novém muzejním zákonu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ájena příprava novelizace zák. 71/1994 o prodeji a vývozu předmětů kulturní hodnoty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95" name="Nadpis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račovat v úspěšném čerpání mezinárodních fondů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račovat v podpoře VVČ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ě apelovat na provázání příjmů vzniklých z činnosti kulturních institucí s financováním kultury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aximálně spolupracovat na umožnění dalšího růstu mezd v kultuře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odnotit systém grantové podpory s cílem prověření množností víceletého financování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tanregion Krušné Hory, Erzgebirge – přepracováno, předloženo k novému hodnocení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tec město chmele– hodnoceno - defer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ladruby nad Labem - Krajina pro chov ceremoniálních kočárových koní – odevzdáno, probíhá hodnocení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elké lázně Evropy – odevzdáno, probíhá hodnocení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99" name="Nadpis 1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500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Nadpis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P2025439"/>
          <p:cNvPicPr/>
          <p:nvPr/>
        </p:nvPicPr>
        <p:blipFill>
          <a:blip r:embed="rId2"/>
          <a:stretch/>
        </p:blipFill>
        <p:spPr>
          <a:xfrm>
            <a:off x="2195640" y="1916280"/>
            <a:ext cx="4416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íle 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árodní zahájení v ČR 15.11.2017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le MK, nevládních organizací, sdružení vlastníků památek -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poděkování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3" name="Nadpis 2" descr=""/>
          <p:cNvPicPr/>
          <p:nvPr/>
        </p:nvPicPr>
        <p:blipFill>
          <a:blip r:embed="rId1"/>
          <a:stretch/>
        </p:blipFill>
        <p:spPr>
          <a:xfrm>
            <a:off x="328680" y="152280"/>
            <a:ext cx="84614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átní kulturní politika na léta 2015 - 2020</a:t>
            </a:r>
            <a:endParaRPr b="0" lang="en-US" sz="32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án implementace SKP na léta 2015 - 2020</a:t>
            </a:r>
            <a:endParaRPr b="0" lang="en-US" sz="32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cepce památkové péče na léta 2017 - 2020</a:t>
            </a:r>
            <a:endParaRPr b="0" lang="en-US" sz="32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cepce muzejnictví v letech 2015 - 2020</a:t>
            </a:r>
            <a:endParaRPr b="0" lang="en-US" sz="32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materiální kulturní dědictví – návrh na nový systém administrace na MK</a:t>
            </a:r>
            <a:endParaRPr b="0" lang="en-US" sz="32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5" name="Nadpis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kračovat v programu vyhlašování krajinných památkových zón opatřením obecné povahy a zaměřit je na typické uchované části kulturní krajiny viz podle § 6 zákona č. 20/1987 Sb., o státní památkové péči. Další rozvíjení implementace Geoinfostrategie dle schváleného Akčního plánu usnesení vlády č. 815, z 8. 10. 2014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Legislativně zajistit odpovídající správu vybraných území se soustředěnými kulturními hodnotami (vč lokalit UNESCO,…) – management plan, rada památky (Kladruby, ad.)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7" name="Nadpis 3" descr=""/>
          <p:cNvPicPr/>
          <p:nvPr/>
        </p:nvPicPr>
        <p:blipFill>
          <a:blip r:embed="rId1"/>
          <a:stretch/>
        </p:blipFill>
        <p:spPr>
          <a:xfrm>
            <a:off x="311040" y="152280"/>
            <a:ext cx="846144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Podporovat identifikaci obyvatel s jedinečnými hodnotami kulturního prostředí regionů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Hradozámecká noc, Noc muzeí, Noc kostelů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Dny evropského kulturního dědictví a Mezinárodní den památek a sídel 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Mezinárodní den muzeí, Festival muzejních nocí a pietní akty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užívat otevřené metody koordinace pro účinnější prosazení ochrany kulturních hodnot a rozvoje kulturní rozmanitosti v koncepčních materiálech krajů a obcí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9" name="Nadpis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471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tinuálně podporovat efektivní metody trvalého uchování knihovních dokumentů (včetně knihovních fondů z let 1850-1990) – digitalizace, odkyselování,…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chování národního zvukového dědictví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chování národního kulturního dědictví vzniklého v elektronické podobě – web, CES, DEMUS,…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dporovat důvěryhodné dlouhodobé uložení digitálních dokumentů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Rozvoj a podpora systému ochrany kulturního dědictví při přírodních katastrofách a válečných konfliktech včetně vazby na Integrovaný záchranný systém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– ISO, Haag, …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81" name="Nadpis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ajistit a rozvíjet program Integrovaný systém ochrany movitého kulturního dědictví ve všech jeho částech, při naplňování programu spolupracovat s dalšími resorty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– flexibilně (požární ochrana,…)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zabezpečení objektů v nichž jsou uloženy předměty movitého KD bezpečnostními systémy a mechanickými zábranami 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 – evidence a dokumentace movitého KD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 – Výkupy předmětů kulturní hodnoty mimořádného významu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 – Preventivní ochrana před nepříznivými vlivy prostředí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 – uplatnění předkupního práva státu a nároku na převedení movitého archeologického nálezu do vlastnictví státu 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děkování za konference k požární ochraně památek (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Guty, Karnola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83" name="Nadpis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1 Podporovat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kulturní a kreativní odvětví</a:t>
            </a:r>
            <a:endParaRPr b="0" lang="en-US" sz="24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vrhnout meziresortní nástroje podpory konkurenceschopnosti kulturních a kreativních odvětví </a:t>
            </a:r>
            <a:endParaRPr b="0" lang="en-US" sz="24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igitalizovat kulturní obsah důležitý pro rozvoj kulturních a kreativních odvětví včetně vyřešení autorskoprávních aspektů prezentace digitalizovaných děl.</a:t>
            </a:r>
            <a:endParaRPr b="0" lang="en-US" sz="24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muzeích a knihovnách zaměřených na uchování věcí kulturních statků dokládajících kreativitu vytvořit helpdesk pro podnikatele včetně adekvátní systémové a aplikační podpory</a:t>
            </a:r>
            <a:endParaRPr b="0" lang="en-US" sz="24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85" name="Nadpis 2" descr=""/>
          <p:cNvPicPr/>
          <p:nvPr/>
        </p:nvPicPr>
        <p:blipFill>
          <a:blip r:embed="rId1"/>
          <a:stretch/>
        </p:blipFill>
        <p:spPr>
          <a:xfrm>
            <a:off x="334800" y="-55440"/>
            <a:ext cx="8382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budovat infrastrukturu umožňující efektivní zvyšování poznání a návštěvnosti kulturní krajiny, památek a muzeí, aniž by docházelo k jejich devastaci – spolupráce s Czechtourismem, IROP,…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3.2 Podporovat kreativní formy využívání a prezentace kulturního dědictví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edukační programy – spolupráce s MŠM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kulturní akce,…)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87" name="Nadpis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2:11:43Z</dcterms:created>
  <dc:creator>Bečvář</dc:creator>
  <dc:description/>
  <dc:language>en-US</dc:language>
  <cp:lastModifiedBy>Vlastislav Ouroda</cp:lastModifiedBy>
  <cp:lastPrinted>2018-11-27T07:42:30Z</cp:lastPrinted>
  <dcterms:modified xsi:type="dcterms:W3CDTF">2018-11-27T07:44:17Z</dcterms:modified>
  <cp:revision>165</cp:revision>
  <dc:subject/>
  <dc:title>Prezentace aplikace PowerPoint</dc:title>
</cp:coreProperties>
</file>