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09E-4D08-4BA6-BFB1-59A802ED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CD4-2452-4F51-8D9B-21182D0A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1BB-369A-4A77-8E78-7E23F206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810-4B66-40B4-9E3A-D6EE0E2D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5A7-8A88-4968-90F9-0DB6252E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7A9-2C73-4959-9D40-E83EFC81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DC4-5FC2-4AD2-9644-42C6502F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92B-890E-46FD-A709-3851C634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485-5B6D-4A22-9C26-68CD0381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A3B-0316-4363-A93C-CA97AC9F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1BF-43BF-44AD-87E3-736342EA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799-8FB0-43BB-8C4C-9D797370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5151-3000-4D0B-A77B-B61B6826EB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d21242"/>
                </a:solidFill>
                <a:latin typeface="Calibri"/>
              </a:rPr>
              <a:t>Fulbrightova </a:t>
            </a:r>
            <a:br>
              <a:rPr sz="6000"/>
            </a:br>
            <a:r>
              <a:rPr b="1" lang="cs-CZ" sz="6000" spc="-1" strike="noStrike">
                <a:solidFill>
                  <a:srgbClr val="d21242"/>
                </a:solidFill>
                <a:latin typeface="Calibri"/>
              </a:rPr>
              <a:t>stipend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1640" y="3357720"/>
            <a:ext cx="655308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040"/>
                </a:solidFill>
                <a:latin typeface="Calibri"/>
              </a:rPr>
              <a:t>Hana Rip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404040"/>
                </a:solidFill>
                <a:latin typeface="Calibri"/>
              </a:rPr>
              <a:t>ředitelka Komise J. Williama Fulbrigh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F_fulbright_cz_horizontal.gif"/>
          <p:cNvPicPr/>
          <p:nvPr/>
        </p:nvPicPr>
        <p:blipFill>
          <a:blip r:embed="rId1"/>
          <a:stretch/>
        </p:blipFill>
        <p:spPr>
          <a:xfrm>
            <a:off x="684360" y="549360"/>
            <a:ext cx="33462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79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21242"/>
                </a:solidFill>
                <a:latin typeface="Calibri"/>
              </a:rPr>
              <a:t>Kontaktujte ná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160" y="2298600"/>
            <a:ext cx="8002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Komise J. W. Fulbright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Karmelitská 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118 00 Praha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Tel. 222 729 987, 222 718 15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emancova</a:t>
            </a: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@fulbright.cz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b: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www.fulbright.cz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F_fulbright_cz_horizontal.gif"/>
          <p:cNvPicPr/>
          <p:nvPr/>
        </p:nvPicPr>
        <p:blipFill>
          <a:blip r:embed="rId1"/>
          <a:stretch/>
        </p:blipFill>
        <p:spPr>
          <a:xfrm>
            <a:off x="684360" y="549360"/>
            <a:ext cx="3346200" cy="473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Image result for andrea semancova"/>
          <p:cNvPicPr/>
          <p:nvPr/>
        </p:nvPicPr>
        <p:blipFill>
          <a:blip r:embed="rId2"/>
          <a:stretch/>
        </p:blipFill>
        <p:spPr>
          <a:xfrm>
            <a:off x="6156360" y="24051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3280" y="1412640"/>
            <a:ext cx="5781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21242"/>
                </a:solidFill>
                <a:latin typeface="Calibri"/>
              </a:rPr>
              <a:t>Fulbrightův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4000" y="2492280"/>
            <a:ext cx="8002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Poslání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„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ovat vzájemné porozum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ní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mezi národy prost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ř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dnictvím vým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n 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v oblasti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vzd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lávání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946  navrhl americký senátor J. William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Fulbrig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0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nerských zem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991  Fulbrightova komise v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ské republ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Image result for fulbright william"/>
          <p:cNvPicPr/>
          <p:nvPr/>
        </p:nvPicPr>
        <p:blipFill>
          <a:blip r:embed="rId1"/>
          <a:stretch/>
        </p:blipFill>
        <p:spPr>
          <a:xfrm>
            <a:off x="468360" y="1282680"/>
            <a:ext cx="2016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79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21242"/>
                </a:solidFill>
                <a:latin typeface="Calibri"/>
              </a:rPr>
              <a:t>Přehled stipendi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4000" y="2492280"/>
            <a:ext cx="8002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ro studen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Fulbrightovo stipendium pro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post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graduální stu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Fulbri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ht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Masarykovo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stipendium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(juniorská kategori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ro vědce a přednášejíc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Fulbright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vo stipendium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 pobyty v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dc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a p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ř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ednášející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Fulbri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ht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Masarykovo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stipendium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(postdoktorská a seniorská kategori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Proshek-Fulbrightovo stipendium pro léka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ř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Instituty amerických studi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ro zástupce neziskových organizac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Fulbri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ht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Masarykovo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stipendium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pro neziskový sek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F_fulbright_cz_horizontal.gif"/>
          <p:cNvPicPr/>
          <p:nvPr/>
        </p:nvPicPr>
        <p:blipFill>
          <a:blip r:embed="rId1"/>
          <a:stretch/>
        </p:blipFill>
        <p:spPr>
          <a:xfrm>
            <a:off x="684360" y="549360"/>
            <a:ext cx="33462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2060640"/>
            <a:ext cx="928836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21242"/>
                </a:solidFill>
                <a:latin typeface="Calibri"/>
              </a:rPr>
              <a:t>Základní předpoklady/omez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4000" y="3716280"/>
            <a:ext cx="755964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eské občan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valý pobyt v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obrá znalost angličt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dnost pro uchaz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 bez dlouhodobé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kušenosti z U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Na obrÃ¡zku mÅ¯Å¾e bÃ½t: 3 lidÃ©, bradka"/>
          <p:cNvPicPr/>
          <p:nvPr/>
        </p:nvPicPr>
        <p:blipFill>
          <a:blip r:embed="rId1"/>
          <a:srcRect l="956" t="11460" r="0" b="15486"/>
          <a:stretch/>
        </p:blipFill>
        <p:spPr>
          <a:xfrm>
            <a:off x="539640" y="260280"/>
            <a:ext cx="558000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79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21242"/>
                </a:solidFill>
                <a:latin typeface="Calibri"/>
              </a:rPr>
              <a:t>Fulbright-Masarykovo stipendium pro neziskový sektor- předpokla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560" y="2781000"/>
            <a:ext cx="78598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jméně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vouletá prax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 oblasti neziskového sektoru.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yplněná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řihlášk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devzdaná k datu uzávěrky spolu 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kte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bytu v USA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řemi doporučujícími dopis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jejich autoři je posílají přímo na adresu komise)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zváním z US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Zvací dopis z USA může být z univerzity a/nebo neziskové organiza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kt pobytu v USA by měl kombinovat výzkumný záměr a praktickou složku, tj. stáž při neziskové organizac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F_fulbright_cz_horizontal.gif"/>
          <p:cNvPicPr/>
          <p:nvPr/>
        </p:nvPicPr>
        <p:blipFill>
          <a:blip r:embed="rId1"/>
          <a:stretch/>
        </p:blipFill>
        <p:spPr>
          <a:xfrm>
            <a:off x="684360" y="549360"/>
            <a:ext cx="33462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79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21242"/>
                </a:solidFill>
                <a:latin typeface="Calibri"/>
              </a:rPr>
              <a:t>Fulbright-Masarykovo stipendium pro neziskový sek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26560" y="2781000"/>
            <a:ext cx="78598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Délka pobytu 3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ž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m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íc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ipendium na životní náklady ve výši 2 000 USD měsíč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říspěvek na zpáteční letenk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ákladní zdravotní pojišt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ožnost vzít s sebou rodinné příslušníky, ale stipendium je pak jen mírně zvýšeno a nepokryje plně náklady pro celou rodi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1185480"/>
            <a:ext cx="79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Calibri"/>
              </a:rPr>
              <a:t>Uzávěrky, časový průběh výběr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4000" y="2492280"/>
            <a:ext cx="8002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gistrační formulář nutné odevzdat do 1. listop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ěhem listopadu konzultace s Fulbrightovou komisí nad náměty v registračním formuláři případně nalezení hostitelské instituce v U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 doporučující dopisy, rozmyslet si od koho a upozornit doporučují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závěrka pro odevzdání kompletní přihlášky 11. prosi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běrová řízení v průběhu ledna/ún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čátek projektu v USA od září do srpna v následujícím školním r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F_fulbright_cz_horizontal.gif"/>
          <p:cNvPicPr/>
          <p:nvPr/>
        </p:nvPicPr>
        <p:blipFill>
          <a:blip r:embed="rId1"/>
          <a:stretch/>
        </p:blipFill>
        <p:spPr>
          <a:xfrm>
            <a:off x="684360" y="549360"/>
            <a:ext cx="33462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0" y="1196640"/>
            <a:ext cx="40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Calibri"/>
              </a:rPr>
              <a:t>Výběry- kritér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400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Rozhoduje kvalita uchazeče a jeho projektu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Relevance zvoucí organiz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Cíle a motivace, širší prospěch pro občanskou společn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ublikační a další relevantní občanské aktivity uchazeč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řihlíží se k obsahu doporučujících dopis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Na obrÃ¡zku mÅ¯Å¾e bÃ½t: 2 lidÃ©, brÃ½le a zÃ¡bÄr zblÃ­zka"/>
          <p:cNvPicPr/>
          <p:nvPr/>
        </p:nvPicPr>
        <p:blipFill>
          <a:blip r:embed="rId1"/>
          <a:srcRect l="-2983" t="6978" r="19398" b="15106"/>
          <a:stretch/>
        </p:blipFill>
        <p:spPr>
          <a:xfrm>
            <a:off x="716040" y="338040"/>
            <a:ext cx="3600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549800" y="151920"/>
            <a:ext cx="76532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Calibri"/>
              </a:rPr>
              <a:t>Výběry- výsled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4000" y="1557000"/>
            <a:ext cx="8002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sledky jsou známy obvykle počátkem břez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aždoročně vybráni 2 až 3 stipendis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očty přihlášek se velice mění (6 až 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Na obrÃ¡zku mÅ¯Å¾e bÃ½t: 3 lidÃ©, smÄjÃ­cÃ­ se lidÃ©, stojÃ­cÃ­ lidÃ© a text"/>
          <p:cNvPicPr/>
          <p:nvPr/>
        </p:nvPicPr>
        <p:blipFill>
          <a:blip r:embed="rId1"/>
          <a:srcRect l="5098" t="11490" r="2546" b="9019"/>
          <a:stretch/>
        </p:blipFill>
        <p:spPr>
          <a:xfrm>
            <a:off x="1835280" y="4005360"/>
            <a:ext cx="4819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2:05:27Z</dcterms:created>
  <dc:creator>Jakub Tesar</dc:creator>
  <dc:description/>
  <dc:language>en-US</dc:language>
  <cp:lastModifiedBy>hanka</cp:lastModifiedBy>
  <cp:lastPrinted>2015-03-18T14:48:47Z</cp:lastPrinted>
  <dcterms:modified xsi:type="dcterms:W3CDTF">2018-11-28T08:46:35Z</dcterms:modified>
  <cp:revision>125</cp:revision>
  <dc:subject/>
  <dc:title>Možnosti studia v USA</dc:title>
</cp:coreProperties>
</file>