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28600" y="0"/>
            <a:ext cx="29307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304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28600" y="9443520"/>
            <a:ext cx="29307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21A6-AD91-4A00-BAFC-1CD7D00D715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ECF1-E386-41D2-8883-F0729D32432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893880" y="755640"/>
            <a:ext cx="4970520" cy="3728880"/>
          </a:xfrm>
          <a:prstGeom prst="rect">
            <a:avLst/>
          </a:prstGeom>
          <a:ln w="0">
            <a:noFill/>
          </a:ln>
        </p:spPr>
      </p:sp>
      <p:sp>
        <p:nvSpPr>
          <p:cNvPr id="74" name="PlaceHolder 2"/>
          <p:cNvSpPr>
            <a:spLocks noGrp="1"/>
          </p:cNvSpPr>
          <p:nvPr>
            <p:ph type="body"/>
          </p:nvPr>
        </p:nvSpPr>
        <p:spPr>
          <a:xfrm>
            <a:off x="676080" y="4722480"/>
            <a:ext cx="5408280" cy="4473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057B-6B89-4F64-BB2D-597095739C1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893880" y="755640"/>
            <a:ext cx="4970520" cy="3728880"/>
          </a:xfrm>
          <a:prstGeom prst="rect">
            <a:avLst/>
          </a:prstGeom>
          <a:ln w="0">
            <a:noFill/>
          </a:ln>
        </p:spPr>
      </p:sp>
      <p:sp>
        <p:nvSpPr>
          <p:cNvPr id="77" name="PlaceHolder 2"/>
          <p:cNvSpPr>
            <a:spLocks noGrp="1"/>
          </p:cNvSpPr>
          <p:nvPr>
            <p:ph type="body"/>
          </p:nvPr>
        </p:nvSpPr>
        <p:spPr>
          <a:xfrm>
            <a:off x="676080" y="4722480"/>
            <a:ext cx="5408280" cy="438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282A-0529-4D30-BB79-72AF763511C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893880" y="755640"/>
            <a:ext cx="4970520" cy="3728880"/>
          </a:xfrm>
          <a:prstGeom prst="rect">
            <a:avLst/>
          </a:prstGeom>
          <a:ln w="0">
            <a:noFill/>
          </a:ln>
        </p:spPr>
      </p:sp>
      <p:sp>
        <p:nvSpPr>
          <p:cNvPr id="80" name="PlaceHolder 2"/>
          <p:cNvSpPr>
            <a:spLocks noGrp="1"/>
          </p:cNvSpPr>
          <p:nvPr>
            <p:ph type="body"/>
          </p:nvPr>
        </p:nvSpPr>
        <p:spPr>
          <a:xfrm>
            <a:off x="676080" y="4722480"/>
            <a:ext cx="5408280" cy="438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2E05-28C5-4459-80A8-76F95B8A76E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893880" y="755640"/>
            <a:ext cx="4970520" cy="3728880"/>
          </a:xfrm>
          <a:prstGeom prst="rect">
            <a:avLst/>
          </a:prstGeom>
          <a:ln w="0">
            <a:noFill/>
          </a:ln>
        </p:spPr>
      </p:sp>
      <p:sp>
        <p:nvSpPr>
          <p:cNvPr id="83" name="PlaceHolder 2"/>
          <p:cNvSpPr>
            <a:spLocks noGrp="1"/>
          </p:cNvSpPr>
          <p:nvPr>
            <p:ph type="body"/>
          </p:nvPr>
        </p:nvSpPr>
        <p:spPr>
          <a:xfrm>
            <a:off x="676080" y="4722480"/>
            <a:ext cx="5408280" cy="438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B536-E245-4203-8CD3-72ECBC99C99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893880" y="755640"/>
            <a:ext cx="4970520" cy="3728880"/>
          </a:xfrm>
          <a:prstGeom prst="rect">
            <a:avLst/>
          </a:prstGeom>
          <a:ln w="0">
            <a:noFill/>
          </a:ln>
        </p:spPr>
      </p:sp>
      <p:sp>
        <p:nvSpPr>
          <p:cNvPr id="86" name="PlaceHolder 2"/>
          <p:cNvSpPr>
            <a:spLocks noGrp="1"/>
          </p:cNvSpPr>
          <p:nvPr>
            <p:ph type="body"/>
          </p:nvPr>
        </p:nvSpPr>
        <p:spPr>
          <a:xfrm>
            <a:off x="676080" y="4722480"/>
            <a:ext cx="5408280" cy="438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BC85-2062-46D8-9539-42FB465CAA8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893880" y="755640"/>
            <a:ext cx="4970520" cy="3728880"/>
          </a:xfrm>
          <a:prstGeom prst="rect">
            <a:avLst/>
          </a:prstGeom>
          <a:ln w="0">
            <a:noFill/>
          </a:ln>
        </p:spPr>
      </p:sp>
      <p:sp>
        <p:nvSpPr>
          <p:cNvPr id="89" name="PlaceHolder 2"/>
          <p:cNvSpPr>
            <a:spLocks noGrp="1"/>
          </p:cNvSpPr>
          <p:nvPr>
            <p:ph type="body"/>
          </p:nvPr>
        </p:nvSpPr>
        <p:spPr>
          <a:xfrm>
            <a:off x="676080" y="4722480"/>
            <a:ext cx="5408280" cy="438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DBE4-CAD5-4630-A5E6-285EE700742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893880" y="755640"/>
            <a:ext cx="4970520" cy="3728880"/>
          </a:xfrm>
          <a:prstGeom prst="rect">
            <a:avLst/>
          </a:prstGeom>
          <a:ln w="0">
            <a:noFill/>
          </a:ln>
        </p:spPr>
      </p:sp>
      <p:sp>
        <p:nvSpPr>
          <p:cNvPr id="92" name="PlaceHolder 2"/>
          <p:cNvSpPr>
            <a:spLocks noGrp="1"/>
          </p:cNvSpPr>
          <p:nvPr>
            <p:ph type="body"/>
          </p:nvPr>
        </p:nvSpPr>
        <p:spPr>
          <a:xfrm>
            <a:off x="676080" y="4722480"/>
            <a:ext cx="5408280" cy="438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257C-7CB9-493C-92C3-3DDAE9B7F3A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893880" y="755640"/>
            <a:ext cx="4970520" cy="3728880"/>
          </a:xfrm>
          <a:prstGeom prst="rect">
            <a:avLst/>
          </a:prstGeom>
          <a:ln w="0">
            <a:noFill/>
          </a:ln>
        </p:spPr>
      </p:sp>
      <p:sp>
        <p:nvSpPr>
          <p:cNvPr id="95" name="PlaceHolder 2"/>
          <p:cNvSpPr>
            <a:spLocks noGrp="1"/>
          </p:cNvSpPr>
          <p:nvPr>
            <p:ph type="body"/>
          </p:nvPr>
        </p:nvSpPr>
        <p:spPr>
          <a:xfrm>
            <a:off x="676080" y="4722480"/>
            <a:ext cx="5408280" cy="438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A0A1-9BF9-45B5-B724-4588DD1BF15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893880" y="755640"/>
            <a:ext cx="4970520" cy="3728880"/>
          </a:xfrm>
          <a:prstGeom prst="rect">
            <a:avLst/>
          </a:prstGeom>
          <a:ln w="0">
            <a:noFill/>
          </a:ln>
        </p:spPr>
      </p:sp>
      <p:sp>
        <p:nvSpPr>
          <p:cNvPr id="98" name="PlaceHolder 2"/>
          <p:cNvSpPr>
            <a:spLocks noGrp="1"/>
          </p:cNvSpPr>
          <p:nvPr>
            <p:ph type="body"/>
          </p:nvPr>
        </p:nvSpPr>
        <p:spPr>
          <a:xfrm>
            <a:off x="676080" y="4722480"/>
            <a:ext cx="5408280" cy="438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CA0BA-2CD1-4715-A18B-5916E1C11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32DA5-F886-4C65-B746-0909B52BD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78D9D-0C93-4BD7-9186-E8A376701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81ACD-CBA1-4E87-908E-9D7C6AA57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D5B72-8F45-4DD7-A4E1-49EB2353A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456F2-8A77-412C-ABFA-0FF9797D5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7D9B5-78AD-407B-867C-104261EE7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E8636-DF9A-42D6-9DD2-9EE7753D3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46508-6C5A-4186-9FE9-DA708B26F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C449D-326D-4891-BAA4-1E2A33E9C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D2DF1-5621-4EE7-B8D3-200AA462F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42D0C-12FB-49FE-B457-270F35D8D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6B22-8726-4A8A-96D8-D0847A79B66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85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0" y="0"/>
            <a:ext cx="9144000" cy="6885000"/>
          </a:xfrm>
          <a:prstGeom prst="rect">
            <a:avLst/>
          </a:prstGeom>
          <a:ln w="0">
            <a:noFill/>
          </a:ln>
        </p:spPr>
      </p:pic>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Verdana"/>
                <a:ea typeface="Verdana"/>
              </a:rPr>
              <a:t>Sociální podnikání v Praze</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Verdana"/>
                <a:ea typeface="Verdana"/>
              </a:rPr>
              <a:t>Seminář v PSP ČR</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Verdana"/>
                <a:ea typeface="Verdana"/>
              </a:rPr>
              <a:t>Praha, 18.5. 2017</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85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cs-CZ" sz="2700" spc="-1" strike="noStrike">
                <a:solidFill>
                  <a:srgbClr val="000000"/>
                </a:solidFill>
                <a:latin typeface="Verdana"/>
              </a:rPr>
              <a:t>Sociální podnikání v Praze</a:t>
            </a:r>
            <a:endParaRPr b="0" lang="en-US" sz="27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Sociální podnikání v Praze je nyní na vzestupu a to i díky investičním a neinvestičním výzvám z Operačního programu Praha pól růstu (další výzva z tohoto programu zaměřená na sociální podnikání by měla být zveřejněna v září tohoto roku).</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Celkově je po sedmileté období (2014-2021) k dispozici v Praze pro oblast sociálního podnikání alokováno 65 milionů Kč pro investiční projekty a na podporu sociálního podnikání jsou určeny také finanční prostředky ve výši 610 milionů Kč pro neinvestiční projekty (z této částky jsou však podporovány také komunitní centra, prevence atd.).</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V této době jsou podepisovány smlouvy s realizátory projektů sociálního podnikání</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0" y="0"/>
            <a:ext cx="9144000" cy="6885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cs-CZ" sz="2700" spc="-1" strike="noStrike">
                <a:solidFill>
                  <a:srgbClr val="000000"/>
                </a:solidFill>
                <a:latin typeface="Verdana"/>
              </a:rPr>
              <a:t>Sociální podnikání v Praze</a:t>
            </a:r>
            <a:endParaRPr b="0" lang="en-US" sz="27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Díky této finanční podpoře velká rozmanitost realizovaných projektů od projektů typu kaváren, až po projekty rozšiřující možnosti sociálního podnikání některých skupin lidí z řad sociálně vyloučených občanů nebo ohrožených sociálním vyloučením (zdravotně postižení, samoživitelé atd.)</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Některé vzorové projekty z minulého programovacího období financované z OPPA  administrovaného hl.m. Prahou:</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Toulcův dvůr – projekt je zaměřený na vzniku a rozvoj sociálního podniku s cílem integrovat znevýhodněné osoby do pracovního procesu tím, že se podílí na zajišťování stravování pracovníků i návštěvníků Toulcova dvor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0" y="0"/>
            <a:ext cx="9144000" cy="6885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cs-CZ" sz="2700" spc="-1" strike="noStrike">
                <a:solidFill>
                  <a:srgbClr val="000000"/>
                </a:solidFill>
                <a:latin typeface="Verdana"/>
              </a:rPr>
              <a:t>Sociální podnikání v Praze</a:t>
            </a:r>
            <a:endParaRPr b="0" lang="en-US" sz="27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Projekt se zaměřil na každodenní provoz stravovacího zařízení. Hlavními aktivitami projektu jsou: přípravná fáze projektu,  rekonstrukce stávajících prostor a jejich dovybavení, otevření a běžný provoz stravovacího zařízení, proškolení 5 osob znevýhodněných na trhu práce, zaměstnání těchto osob s uzavřením pracovních smluv, posilování jejich kapacit pravidelnou týmovou supervizí, osobní asistencí, vzdělávacími aktivitami a uspořádání závěrečného semináře.</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Projekt Vesmírna – sociální firma: smyslem projektu je připravit pro cílovou skupinu pracovní kariéru a pomoci jim získat vhodnou praxi. Praxi a další pracovní zkušenosti bude cílová skupina získávat díky zaměstnání v cukrárně Vesmírna.</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0" y="0"/>
            <a:ext cx="9144000" cy="6885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cs-CZ" sz="2700" spc="-1" strike="noStrike">
                <a:solidFill>
                  <a:srgbClr val="000000"/>
                </a:solidFill>
                <a:latin typeface="Verdana"/>
              </a:rPr>
              <a:t>Sociální podnikání v Praze</a:t>
            </a:r>
            <a:endParaRPr b="0" lang="en-US" sz="27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Cílovou skupinou projektu jsou lidé s lehkým (pásmo IQ 50 - 69) až středním (pásmo IQ 35 - 49) typem mentálního handicapu starší 18     let, s trvalým nebo dlouhodobým pobytem na území hl. m. Prahy.</a:t>
            </a:r>
            <a:endParaRPr b="0" lang="en-US" sz="2000" spc="-1" strike="noStrike">
              <a:solidFill>
                <a:srgbClr val="000000"/>
              </a:solidFill>
              <a:latin typeface="Arial"/>
            </a:endParaRPr>
          </a:p>
          <a:p>
            <a:pPr marL="339480" indent="-3394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Projektem obecně prospěšná společnost Cukrárna Vesmírna zlepšila zaměstnatelnost cílové skupiny v regionu Prahy, a to zřízením 9 pracovních míst ve výrobně a prodejně cukrárny Vesmírna. Jejich prostřednictvím získala cílová skupina potřebné zkušenosti, které zvýší jejich možnosti při hledání uplatnění na otevřeném pracovním trhu. Výstupem je celkem 18 osob cílové skupiny, které získají pracovní místo v cukrárenském provozu v průběhu trvání projektu.</a:t>
            </a:r>
            <a:endParaRPr b="0" lang="en-US" sz="2000" spc="-1" strike="noStrike">
              <a:solidFill>
                <a:srgbClr val="000000"/>
              </a:solidFill>
              <a:latin typeface="Arial"/>
            </a:endParaRPr>
          </a:p>
          <a:p>
            <a:pPr marL="339480" indent="-3394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Další typový projekt Barbory Vignerové Mazancové </a:t>
            </a:r>
            <a:r>
              <a:rPr b="1" lang="cs-CZ" sz="2000" spc="-1" strike="noStrike">
                <a:solidFill>
                  <a:srgbClr val="000000"/>
                </a:solidFill>
                <a:latin typeface="Verdana"/>
                <a:ea typeface="Verdana"/>
              </a:rPr>
              <a:t>Obchod s hračkami jako sociální firma </a:t>
            </a:r>
            <a:r>
              <a:rPr b="0" lang="cs-CZ" sz="2000" spc="-1" strike="noStrike">
                <a:solidFill>
                  <a:srgbClr val="000000"/>
                </a:solidFill>
                <a:latin typeface="Verdana"/>
                <a:ea typeface="Verdana"/>
              </a:rPr>
              <a:t>se zaměřil na rozvoj sociální firmy </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0" y="0"/>
            <a:ext cx="9144000" cy="6885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cs-CZ" sz="2700" spc="-1" strike="noStrike">
                <a:solidFill>
                  <a:srgbClr val="000000"/>
                </a:solidFill>
                <a:latin typeface="Verdana"/>
              </a:rPr>
              <a:t>Sociální podnikání v Praze</a:t>
            </a:r>
            <a:endParaRPr b="0" lang="en-US" sz="27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prodávající hračky, která začleňuje osoby se zdravotním znevýhodněním: cílem projektu bylo vytvoření sociální firmy HRAČKOTÉKA, která zaměstnává osoby s tělesným, mentálním a kombinovaným postižením. Sociální firma vznikla z dobře zavedeného obchodu s hračkami, který má svou zákaznickou základnu. Dosud HRAČKOTÉKA fungovala pouze jako internetový obchod nabízející edukační a kreativní hračky z papíru a dřeva. V rámci projektu vznikla kamenná prodejna sklad, kde pracují lidé z cílové skupiny. První aktivita je zaměřena na trénink pracovních dovedností, kterým prošlo 21 osob s tělesným, mentálním a kombinovaným postižením. Trénink obsáhl nácvik konkrétních pracovních úkonů potřebných pro provoz obchodu a nácvik sociálních a komunikačních dovedností. </a:t>
            </a:r>
            <a:endParaRPr b="0" lang="en-US" sz="2000" spc="-1" strike="noStrike">
              <a:solidFill>
                <a:srgbClr val="000000"/>
              </a:solidFill>
              <a:latin typeface="Arial"/>
            </a:endParaRPr>
          </a:p>
          <a:p>
            <a:pPr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0"/>
            <a:ext cx="9144000" cy="6885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cs-CZ" sz="2700" spc="-1" strike="noStrike">
                <a:solidFill>
                  <a:srgbClr val="000000"/>
                </a:solidFill>
                <a:latin typeface="Verdana"/>
              </a:rPr>
              <a:t>Sociální podnikání v Praze</a:t>
            </a:r>
            <a:endParaRPr b="0" lang="en-US" sz="27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ea typeface="Verdana"/>
              </a:rPr>
              <a:t>Po celou dobu pracovního tréninku klientům k dispozici pracovní konzultantka a pracovní asistent přiměřenou individuální podporu. Díky získaným dovednostem v prostředí reálné firmy budou tito lidé lépe připraveni na vstup na otevřený trh práce. Klientům, kteří prošli tréninkem pracovních dovedností buď nabídnuto pracovní místo v sociální firmě HRAČKOTÉKA nebo mu bude nabídnuta spolupráce v programu podporované zaměstnávání v občanském sdružení Asistence (partner projektu). V rámci druhé aktivity vznikla v sociální firmě HRAČKOTÉKA 4 pracovní místa pro lidi z cílové skupiny.</a:t>
            </a:r>
            <a:endParaRPr b="0" lang="en-US" sz="2000" spc="-1" strike="noStrike">
              <a:solidFill>
                <a:srgbClr val="000000"/>
              </a:solidFill>
              <a:latin typeface="Arial"/>
            </a:endParaRPr>
          </a:p>
          <a:p>
            <a:pPr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0" y="0"/>
            <a:ext cx="9144000" cy="6885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Verdana"/>
              </a:rPr>
              <a:t>Kontakt</a:t>
            </a:r>
            <a:endParaRPr b="0" lang="en-US" sz="21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Verdana"/>
              </a:rPr>
              <a:t>	</a:t>
            </a:r>
            <a:r>
              <a:rPr b="0" lang="cs-CZ" sz="1800" spc="-1" strike="noStrike">
                <a:solidFill>
                  <a:srgbClr val="000000"/>
                </a:solidFill>
                <a:latin typeface="Verdana"/>
              </a:rPr>
              <a:t>	</a:t>
            </a:r>
            <a:r>
              <a:rPr b="0" lang="cs-CZ" sz="1800" spc="-1" strike="noStrike">
                <a:solidFill>
                  <a:srgbClr val="000000"/>
                </a:solidFill>
                <a:latin typeface="Verdana"/>
              </a:rPr>
              <a:t>	</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Mgr. Stanislav Skalický</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stanislav.skalicky@obcanskeporadny.cz</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Sabinova 3</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130 00 Praha 3</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Tel:  774 529 960</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Verdana"/>
              </a:rPr>
              <a:t>www.obcanskeporadny.cz</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14:54:35Z</dcterms:created>
  <dc:creator>Ladislav Čumba</dc:creator>
  <dc:description/>
  <dc:language>en-US</dc:language>
  <cp:lastModifiedBy>Stanislav Skalický</cp:lastModifiedBy>
  <cp:lastPrinted>2012-11-28T14:31:27Z</cp:lastPrinted>
  <dcterms:modified xsi:type="dcterms:W3CDTF">2017-05-18T04:34:25Z</dcterms:modified>
  <cp:revision>218</cp:revision>
  <dc:subject/>
  <dc:title>Snímek 1</dc:title>
</cp:coreProperties>
</file>