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1F8-1C71-447D-9F44-8530AAC6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07C-A1F2-4E82-BF6E-DA830483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984-F78A-4558-BE77-0C24B28A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900-65F6-463A-9E48-C4A86B3A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F7DE-8CFC-47C0-829C-0178ADC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A308-6A62-4A22-855D-9013263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0485-B0FD-4778-AD5C-48F9ECAB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BAB1-C138-45E2-AAAE-4A8060FE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1DCA-EAAE-49E1-9791-7BCA061B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7950-CE96-4806-903C-4F08C2F3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FBAC-33F5-40BF-845B-71BB6A3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5E7-2892-4E7E-B7E0-75179175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9D7E-51D5-4DEA-839F-418B15F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FED2-FC66-4042-8E52-B1C0382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484F-8296-4005-91E5-D52D8F9E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099A-9055-4FE0-87D8-F36B4193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7B0F-DFEA-4AB1-BDE9-C705444A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C87-CC84-4E81-8F7B-BA60FCCE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2DF-AAE0-46A5-8EFC-E5A1CE5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054-27B0-4B21-9882-7098403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557-C9C9-4F8C-9AF7-7EEE5BD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70C-92E3-4BF4-8723-CB02631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393-7395-4D75-B8E1-A07E6C5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6D8-6006-4FB7-9A55-74627296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73C3-9323-4D8B-BDBD-9D4907C2EBAD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310D-93EB-4B7A-97A1-5AD5A973A118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391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6600"/>
                </a:solidFill>
                <a:latin typeface="Arial"/>
              </a:rPr>
              <a:t>PROBLÉMY A Š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3280" y="472428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00"/>
                </a:solidFill>
                <a:latin typeface="Arial Black"/>
              </a:rPr>
              <a:t>Petr Fia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99"/>
                </a:solidFill>
                <a:latin typeface="Arial"/>
              </a:rPr>
              <a:t>AČ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99"/>
                </a:solidFill>
                <a:latin typeface="Arial"/>
              </a:rPr>
              <a:t>Konference: UZS a Mladá fron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cs-CZ" sz="1200" spc="-1" strike="noStrike">
                <a:solidFill>
                  <a:srgbClr val="000099"/>
                </a:solidFill>
                <a:latin typeface="Arial"/>
              </a:rPr>
              <a:t>27. listopadu 20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4360" y="234936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5400" spc="-1" strike="noStrike">
                <a:solidFill>
                  <a:srgbClr val="000099"/>
                </a:solidFill>
                <a:latin typeface="Arial"/>
              </a:rPr>
              <a:t>DLOUHODOBÉ PÉČE 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5400" spc="-1" strike="noStrike">
                <a:solidFill>
                  <a:srgbClr val="000099"/>
                </a:solidFill>
                <a:latin typeface="Arial"/>
              </a:rPr>
              <a:t>V ČR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CA8D-1561-40C3-9A05-7BAAE58DA898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Ošetřovací dny (OD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. 1998 neexistovala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žádná definice, pouze kódy úhrad O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 Provádí se buď značně složitý výpočet dle „seznamu výkonů“, tj. základních úhrad, nepřímých nákladů (režie), kategorií pacienta atd. aneb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 r. 2005 se vyhl. č. 50/2005 Sb. podařilo kalkulovat celkovou úhradu OD v jednotlivých kategorií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ódy např.: 005 (oš. lůžka), 0021-0024 odborné léčebné ústavy, 0025-0029 dětské OLÚ a 0030 hosp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př. OD pac. LDN (024) ve 3. kat v r. 2014 Kč: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1254,-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u oš. lůžka-soc. hospitalizace (005):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1146,-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Kč atd. Jak řečeno, cena (reál. náklady) je o 300–500 Kč vyšší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B8A-7D06-455E-BF91-632EF26A4327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Úhradové vyhlášky 2009-201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835280" y="1700280"/>
          <a:ext cx="5616360" cy="3139920"/>
        </p:xfrm>
        <a:graphic>
          <a:graphicData uri="http://schemas.openxmlformats.org/drawingml/2006/table">
            <a:tbl>
              <a:tblPr/>
              <a:tblGrid>
                <a:gridCol w="936360"/>
                <a:gridCol w="2376720"/>
                <a:gridCol w="1008000"/>
                <a:gridCol w="129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kce úhr. vyhl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nfl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ál v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 r.09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6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 r.10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 r.11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 r. 12+100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1"/>
          <p:cNvSpPr/>
          <p:nvPr/>
        </p:nvSpPr>
        <p:spPr>
          <a:xfrm>
            <a:off x="468360" y="501336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n.: V letech 2010-11 vč. přípl. lékařům a sestrám, v ostatních letech se vybíraly „regul. poplatky“, v r. 2014 byly ÚS zrušeny, ale dle MZ ČR kompenzovány. V r. 2013 kromě poklesu úhrad dopady devalvace Kč dle ČNB 10% a zvýšení DPH na léky a zdrav. materiál na 21%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Line 76"/>
          <p:cNvSpPr/>
          <p:nvPr/>
        </p:nvSpPr>
        <p:spPr>
          <a:xfrm>
            <a:off x="4572000" y="2276640"/>
            <a:ext cx="187164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Line 77"/>
          <p:cNvSpPr/>
          <p:nvPr/>
        </p:nvSpPr>
        <p:spPr>
          <a:xfrm>
            <a:off x="4572000" y="2276640"/>
            <a:ext cx="172872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C96-A274-4121-BB3B-A6AF7F2F085A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Úhradová vyhl. na r. 201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58920" y="1916280"/>
          <a:ext cx="6337440" cy="2349360"/>
        </p:xfrm>
        <a:graphic>
          <a:graphicData uri="http://schemas.openxmlformats.org/drawingml/2006/table">
            <a:tbl>
              <a:tblPr/>
              <a:tblGrid>
                <a:gridCol w="1081080"/>
                <a:gridCol w="2736720"/>
                <a:gridCol w="1150920"/>
                <a:gridCol w="13687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kce úhr. vyhl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nfl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ál v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 r. 12 + 100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z r.14 bez 100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7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4" name="Text Box 58"/>
          <p:cNvSpPr/>
          <p:nvPr/>
        </p:nvSpPr>
        <p:spPr>
          <a:xfrm>
            <a:off x="1042920" y="4437000"/>
            <a:ext cx="74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n.: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asné verze úhradové vyhlášky ve vnějším přip. řízení odbourává kompenzaci regul. popl. a je vypočítávána z absolutní hodnoty úhrady v r. 2014, ale bez započtení a kompenzace RP. </a:t>
            </a:r>
            <a:r>
              <a:rPr b="1" lang="cs-CZ" sz="2000" spc="-1" strike="noStrike">
                <a:solidFill>
                  <a:srgbClr val="0000cc"/>
                </a:solidFill>
                <a:latin typeface="Arial"/>
              </a:rPr>
              <a:t>Úhrada klesá o cca 2,6% oproti roku 2014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AC77-06E4-4C56-A029-9FF949BD795F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Co zdravotní pojišťovn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35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P mají s úhradami následné péče problé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y však tvoří pouze 8% úhrad celého lůžkového segmentu, ale až 30% jeho kapac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ž mnoho let se ZP snaží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omezit úhrady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 těchto lůžkách např.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60, 90, 120 d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nejinak i le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kem by bylo, že pacient by byl jeden den placen z titulu pojištění, ale druhý den už nikoliv, přičemž není nikde nikým řečeno,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co by s ním bylo dál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nto návrh padl i na komisi MZ 9.6.1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kazujeme, že by to odporovalo Ústavě ČR i čl. 31 Listiny základních lidských práv a svobo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3C7A-C26F-4879-95FE-4B6BFC1C0550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Exkurs: sociální sfér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53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ůžková péče se týká hlavně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domovů pro senior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postižené a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současných tendencí a propozic MPSV mají být  relativně soběstační lidé co nejdéle doma, a teprve nesoběstační mají chodit do „zařízení-ústavů“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ké z toho důvodu dnes tvoří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klienti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takových zařízení hlavně ležící, nesoběstační „pacienti“ a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rozdíl mezi „domovy pro seniory“ a „LDN“ se zcela stírá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k jsou ovšem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náklad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tzv. „sociálního“ a „zdravotnického“ zařízení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rakticky stejné, úhrady však nejen že nejsou stejné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ale chybí i obdobné schéma úhrad a jejich konstrukce je velmi komplikovan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F37-661D-4178-819F-0756424AE618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Úhrady v sociální sféř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sou 4-složkové a na část z nich není nárok (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Náklady: 870-1200 Kč/O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tj.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7-36 tis./měsí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Úhrady: Celkem: 800–970 Kč/1 O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Z toh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Důchod „klienta“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nes je prům. důchod žen cca 10 tis. Kč, mužů 12 tis. Kč (důchod 8 tis. a méně není výjimkou). Musí však zbýt 15% na „kapesné“ (často léky, poplatky). Průměr max. 300 Kč/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Závislost“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,8-12 tis. Kč, průměr 250-300/OD. Bez ní se téměř nikdo do „domova“ nedostan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Granty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MPSV, kraje aj. – nenárokové, 200-300/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</a:rPr>
              <a:t>Úhrady od ZP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(0913,0925)- 50-70 Kč/OD. Sráž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Na část těchto úhrad neexistuje žádný právní náro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D9B5-EF57-4803-889F-CA8F61BCA5F7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Problé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en člověk je v jednom zařízení jako „klient“ podle jednoho zákona, ve druhém se stává podle jiného „pacientem“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á zhruba stejné potřeby a měly by být pokryty, tj.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tát by na ně měl vyčlenit dostatečné zdroj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hrady jsou nejen velice rozdílné, ale prakticky se liší také kraj od kraje, od jednoho zřizovatele ke druhému („bohaté“ kraje vs. „chudá o.s.“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 s tímto neuspokojivým stavem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DCA-46B5-47B4-BF0D-BFE57C0FE150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Výzvy a š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oučasná vláda čelí výzvě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aby tento stav po 25 letech řešila – je třeba sladit práci MPSV a MZ. To se dosud nepodařilo nikomu, ani v dobách, kdy obě ministerstva řídila stejná stra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klienty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pacienty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se tak otvírá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šan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že čtvrt století opomíjený problém, který se každého potřebného bytostně dotýká, bude vyřeš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747A-FE50-4FE5-A948-D2A2DB2FA22D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Řešení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ešení není kupodivu tak složité, jak by se na první pohled mohlo zdá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lýtvání v obou oblastech může účinně snížit zavedení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neziskových zařízení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 MZ už chystá zákon o neziskových nemocnicích. Co MPSV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 západ od nás vyřešili problém překrývání sociální a zdravotní péče tzv.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ošetřovatelským pojištěním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statek zdrojů a budoucí udržitelnost zajišťuje na západ od nás zvýšená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roduktivita prá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E6D6-8942-48AE-A800-CA96DD15A22E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Německy mluvící země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cházejí z bismarckovského „sociálního pojištění“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Železný kancléř“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Bismarck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zavedl po sjednocení Německa, když se z vojevůdce stal ministerským předsedou,  tzv. „sociální pojištění“ (1881-1889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 se skládalo z pojištění proti nemoci, při úrazu a z pojištění ve stáří. Dodatečně se přidalo pojištění v nezaměstnanost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. 1995 přibyl tzv. „pátý sloup“ –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olidární ošetřovatelské pojiště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 Podobně i v Rakous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D1F-2D50-4482-8A63-1D783B7BF633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3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1885680"/>
            <a:ext cx="777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6633"/>
                </a:solidFill>
                <a:latin typeface="Arial"/>
              </a:rPr>
              <a:t>… </a:t>
            </a:r>
            <a:r>
              <a:rPr b="1" i="1" lang="cs-CZ" sz="2800" spc="-1" strike="noStrike">
                <a:solidFill>
                  <a:srgbClr val="996633"/>
                </a:solidFill>
                <a:latin typeface="Arial"/>
              </a:rPr>
              <a:t>třesu se strachem před přízraky,</a:t>
            </a:r>
            <a:br>
              <a:rPr sz="2800"/>
            </a:br>
            <a:r>
              <a:rPr b="1" i="1" lang="cs-CZ" sz="2800" spc="-1" strike="noStrike">
                <a:solidFill>
                  <a:srgbClr val="996633"/>
                </a:solidFill>
                <a:latin typeface="Arial"/>
              </a:rPr>
              <a:t>  že jednou ze mne bude ta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i="1" lang="cs-CZ" sz="2800" spc="-1" strike="noStrike">
                <a:solidFill>
                  <a:srgbClr val="996633"/>
                </a:solidFill>
                <a:latin typeface="Arial"/>
              </a:rPr>
              <a:t>důchodce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„</a:t>
            </a: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Důchodce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i="1" lang="cs-CZ" sz="2400" spc="-1" strike="noStrike">
                <a:solidFill>
                  <a:srgbClr val="006600"/>
                </a:solidFill>
                <a:latin typeface="Arial"/>
              </a:rPr>
              <a:t>Karel Kryl, 19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B46-B8C0-4CEC-8063-654CA7F184C6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Princ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rinci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ást zdrojů se oddělí ze sociálních a část ze zdravotnických fondů. Technické zvládnutí není složité. V SRN v r. ´95 odhadli odvody na 3,2%, nyní cca 4,7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ČR by to mohlo být v řádu několika desítek mld.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 ČR je to patrně jediná šance („Kolumbovo vejce“) jak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řeklenout mezer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na rozhraní „zdravotně-sociálním“ či „soc.-zdravotním“ v situaci, kdy se za 25 let spolu nedokázala dohodnout MPSV a MZ, přičemž není důvod se domnívat, že by se měla dohodnout nyní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šetřování by mělo zahrnout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lůžkovou sféru i domácí péč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 Zásadní část (70-80%) tvoří mzdové náklady, proto by nemělo hrozit „tunelování“ do té míry jako ve zdra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C39-EDA6-4C67-A1C1-5680557AE8BD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497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„</a:t>
            </a: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Musíme si na to napřed vydělat.“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 klišé praví, že si na sociální služby a zdravotnictví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musíme napřed vyděl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 Hodnota služeb je pak prakticky daná pouze disponibilními zdro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to klišé je jedním z nejzatvrzelejších reliktů komunistické ek. teorie, která tvrdila, že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lužby nevytvářejí (nad-)hodnotu,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a musíme si na ně napřed vydělat v primárním a sekundárním sektor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kantní je, že to i dnes zní z úst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pravicových“ ekonom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(!) v bývalých „soc. zemích“ 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ostup je opačný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 veřejné služby mají svou reálnou cenu,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nutné náklad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kt. je třeba uhradit. Buď z veřejných nebo ze soukromých zdroj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006-C590-4863-A41B-A7372100097B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487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6600"/>
                </a:solidFill>
                <a:latin typeface="Arial"/>
              </a:rPr>
              <a:t>Populační exploze a produktivita prá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rognózy popula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jsou často nepřesné: v r. ´73 jsme čekali, že v r. 2000 nás bude cca 15 mld. 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Realita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Lidstvo neroste po </a:t>
            </a:r>
            <a:r>
              <a:rPr b="1" lang="cs-CZ" sz="2400" spc="-1" strike="noStrike">
                <a:solidFill>
                  <a:srgbClr val="0000cc"/>
                </a:solidFill>
                <a:latin typeface="Arial"/>
              </a:rPr>
              <a:t>exponencie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ale spíš inverzně po </a:t>
            </a:r>
            <a:r>
              <a:rPr b="1" lang="cs-CZ" sz="2400" spc="-1" strike="noStrike">
                <a:solidFill>
                  <a:srgbClr val="0000cc"/>
                </a:solidFill>
                <a:latin typeface="Arial"/>
              </a:rPr>
              <a:t>logaritmické křiv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(jakýsi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gen lidstva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víc: Vývoj ukazuje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otenciál, aby čím dál méně lidí uživilo čím dál víc důchodců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iz ek. aktivní popu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Klíčem je produktivita prá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která je u nás stále zlomkem vyspělého svě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. 1973 připouštěly i sovětské zdroje (Cagolov), že produktivita práce v sov. bloku je jen 1/5-1/3 ku U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časnost v ČR: cca 2 pracující na 1 důchod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Arial"/>
              </a:rPr>
              <a:t>Budoucnost: 1 pracující může uživit 2 i více důchodců díky výrazně vyšší produktivitě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D4C9-A738-4A4B-8B6A-832C846929C6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800" spc="-1" strike="noStrike">
                <a:solidFill>
                  <a:srgbClr val="006600"/>
                </a:solidFill>
                <a:latin typeface="Arial"/>
              </a:rPr>
              <a:t>Závě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ouhodobá a následná péče v ČR mají šanc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Řešení existuj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třeba se chopit příležitosti a situaci řeš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Děkuji Vám za pozornost</a:t>
            </a:r>
            <a:endParaRPr b="0" lang="en-US" sz="27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619280" y="29239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6600"/>
                </a:solidFill>
                <a:latin typeface="Arial"/>
              </a:rPr>
              <a:t>petrfiala@hotmail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3164-2BC7-4A1A-B81E-875E4AFE13FD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 s defini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lavní úskalí a hroz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ance a východi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437-FD24-4FCA-9AD8-1D0FF9BB41FA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Nejasný poj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dneška není zcela jasné, o co se jedná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blematické je legislativní zakotvení, není řádně ošetřena oblast na rozhraní zdrav. a sociální péč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nak vidí problematiku sociální sféra, jinak ji vnímá zdravotnictví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y č. 108/2006 Sb. o soc. službách a č. 372/2011 Sb. zdravotních službách se v tomto směru nepotkávají, ale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míjej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středíme se nyní na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dravotnictv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a jeho rozhraní se soc. službam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F7E-0004-4860-B9CD-D92FD2BFEDE8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Zdravotnictví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i zdravotnictví si s tímto pojmem nevědělo ra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č. 20/66 Sb. tyto druhy péče nez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ž zák. č. 372/2011 Sb. se pokouší tuto péči upravit. Ovšem je třeba jej co nejdřív novelizov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 r. ´89 za účelem úpravy této problematiky na rozhraní zdrav. a soc. už vznikla (a zase zanikla)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řada komis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 Problém zůstal nevyřeše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ne 9.6.2014 vzniká na MZ ČR další komise, která má problém řešit. Při prvním jednání se dovídá, že MPSV na práci nebude participovat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7CD6-B648-418D-8254-A37610D3C137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Zákon č. 372/ 2011 Sb. </a:t>
            </a:r>
            <a:r>
              <a:rPr b="0" i="1" lang="cs-CZ" sz="2000" spc="-1" strike="noStrike">
                <a:solidFill>
                  <a:srgbClr val="006600"/>
                </a:solidFill>
                <a:latin typeface="Arial"/>
              </a:rPr>
              <a:t>(I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9 (2 c) říká, že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Následná péče je poskytována pacientovi, u kt. byla stanovena základní dg. a došlo ke stabilizaci jeho zdravotního stavu … atd.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to formulace je z řady důvodů problematická (stabilizace – destabilizace – exacerbace…, DRG – co nejdřív z akutní do násl. péče atd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9 (2d) říká, že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Dlouhodobá péče je poskytována pacientovi jehož stav nelze léčebnou péčí … zlepšit … a bez ošetřovatelské péče se zhoršuje…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 tato dikce dává různé možnosti výkladu a je zapotřebí ji aktualizov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lavní problémy jsou jak věcné, tak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inanč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C8B3-9544-4890-B3FB-87AFECB0B117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Zákon č. 372/2011 Sb. </a:t>
            </a:r>
            <a:r>
              <a:rPr b="0" i="1" lang="cs-CZ" sz="2000" spc="-1" strike="noStrike">
                <a:solidFill>
                  <a:srgbClr val="006600"/>
                </a:solidFill>
                <a:latin typeface="Arial"/>
              </a:rPr>
              <a:t>(II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mo to je ještě v § 5 (2g) zmíněna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ošetřovatelská péče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za účelem podpory a navrácení zdraví… zachování nebo navrácení soběstačnosti…  péče o nevyléčitelně nemocné… a zajištění klidného umírání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dále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paliativní péče“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§5 (2h), jejímž účelem je zmírnění utrpení a zachování kvality života pacienta, který trpí nevyléčitelnou nemocí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lze přehlédnout např. to, že tyto dva odstavce se do značné míry prolínají a „dublují“… Novela je tedy zcela na místě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icméně lze očekávat, že vhodné formulace se najdo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B4FB-C19D-4E71-B66F-254C9A892FCA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Úskalí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7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zkušeností nejsou ovšem až tak problémem formulace či věcné záměry, nýbrž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inan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MPSV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hodlá hradit zdravotní péči ani v sociálních zařízeních ani ve zdravotnictví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odmítají hradit sociální péči i ve zdravotnictví i v sociálních službách! Tvrdí, že na akutních i násl. lůžkách je mnoho „sociálních“ pacient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P vždy braly jako „křivdu“, když podle vyhl. č. 134/98 Sb. Přešly „LDN“ ze soc. odborů OÚ pod zdravotnictví kvůli převažující zdrav. péč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íc na to však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doplácejí pacien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ať už jsou „sociální“ nebo „zdravotní“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. Werich: „Když jste zajíc, tak máte smůlu …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zápatí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P. Fiala, UZS a MF 27.11.2014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Zástupný symbol pro číslo snímku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5210-1876-419C-8A25-24455B23E402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6600"/>
                </a:solidFill>
                <a:latin typeface="Arial"/>
              </a:rPr>
              <a:t>Dnešní situ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78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můl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mají ale nejen pacienti, ale i zdravotníci v tom, že když se převáděla „následná péče“ v r. 97 pro r. 1998 pod zdravotnictví, kalkulovaly se „sociální“ ceny z r. 1996. Tím vznikla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ystémová chyb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podhodnocující 1 OD v „následné péči“ o 300-500 Kč (směrem pod reálné ceny-náklady ve zdravotnictví). Dnes ji ještě potencují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DRG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současnosti je aktuální „seznam výkonů“ podle vyhl. MZ ČR č. 411/2013 Sb. s účinností od 1.1.2014, kt. novelizuje vyhl. č. 134/98 Sb. (mění se prakticky každý rok, také i let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to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ystémová chyba se však táhne dodne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také proto vypadá tento segment tak, jak vypadá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dravotníci v této oblasti jsou nejhůře placení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56:07Z</dcterms:created>
  <dc:creator>Fiala Petr</dc:creator>
  <dc:description/>
  <dc:language>en-US</dc:language>
  <cp:lastModifiedBy>Věra Velková</cp:lastModifiedBy>
  <dcterms:modified xsi:type="dcterms:W3CDTF">2014-12-08T14:11:05Z</dcterms:modified>
  <cp:revision>684</cp:revision>
  <dc:subject/>
  <dc:title>AKUPUNKTURA  V PROMĚNÁCH ČASU</dc:title>
</cp:coreProperties>
</file>