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image27.jpeg" ContentType="image/jpeg"/>
  <Override PartName="/ppt/media/image26.jpeg" ContentType="image/jpeg"/>
  <Override PartName="/ppt/media/image1.png" ContentType="image/png"/>
  <Override PartName="/ppt/media/image25.wmf" ContentType="image/x-wmf"/>
  <Override PartName="/ppt/media/image24.jpeg" ContentType="image/jpeg"/>
  <Override PartName="/ppt/media/image23.png" ContentType="image/png"/>
  <Override PartName="/ppt/media/image21.png" ContentType="image/png"/>
  <Override PartName="/ppt/media/image4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8384-4479-4E8A-A587-C8E2A75E06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EC6E-84FE-416E-AFCD-22B7774D4D1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667-8340-4868-BA68-08CB0E5B9F1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Building Information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8EC-F718-46B1-BF6F-A749323E65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CBBF-3471-4F53-8326-09091BAA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17CC-5C2E-45B1-A123-BB9BCB4F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8945-C9C0-4D79-873C-6EA190A1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A1F5-EC52-4BF6-82B0-B53D70B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F5E6-2F4E-40F1-A0B7-60C2C4F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4CD4D-8634-46B6-A245-9840469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F9366-5AC2-429E-9712-D945148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9E44-3D05-4366-A578-58341689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0121-A94F-4C78-8C70-C807B19A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2E885-2D31-42A6-A763-2BE2AE64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4A268-DD72-488C-9956-2CC74CC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1F93B-3BCC-4FD5-A9FC-CD198DE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FF0AE-4367-484B-B067-53240A1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0A8FE-01BF-4AE8-9569-D23F03F5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A814A-D7DD-4C94-A433-0A5405DB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21E1-F32B-40AE-89A4-2D01BA3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62B79-0BC3-4507-975F-0085EB6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24DCA-D99F-4306-9506-85DE0DA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D3D1-68C7-4D1A-98E6-11500F3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6EA05-FA59-4F74-8DCF-29FB6800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EFA77-774B-46EA-93FE-3655E122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BFE-FA48-446D-B772-ECAB43E2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45A-0D83-4372-802D-DEEC370E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7C6-D333-4466-97E1-0B77F444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C39-F68D-4072-AC3F-63E435F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B61-CDE9-4209-8EDF-A73DC51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39B-269A-4109-A1D4-E36C149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524-833A-4CF3-8288-B099864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5D5-5E76-42A8-B928-63B0AA3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F42-811A-47C6-97EF-6160326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0F8-9119-4330-A26A-40DBD2B4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777-5CB5-421B-BCE1-C2192EFF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D93-7A35-4B8C-BCD1-E82337B0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2700-6F00-4923-AA3F-0D47F121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A10F-E0B8-4BB4-AE3C-60DB5C75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E007-9783-4A0A-A8AC-E58438E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05A8-EDF1-4FDB-984A-7EB8362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AF25-D0FC-49E9-8BE8-972D66E9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DCE-73DB-4927-98BD-791D863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FCFC-1B08-436E-AAC2-898F450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98D-E9DB-439B-A0A9-B683AECF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A769-4F92-4714-A488-5551FD18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6F1C-9B41-4DFB-8209-55882AF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73FA-CCDD-495D-8F0F-8CA8B503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D5F6-22A0-47D5-994C-21440F43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D049-E548-45D3-895F-FABF87DB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9C53-AD29-4707-9DFA-665CC7B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D3BF-2FE0-4EE4-A248-959657A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4375-4265-4B46-9E78-3786799B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1F82-E87B-48F3-8CDA-0FB7358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44FE-1201-487C-A3FE-206C9B9F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25B3-9305-4E90-988A-5D27AB6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70FF-94F2-4440-860A-5BFF042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8837-5317-4CF2-80A5-7ED5E28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669E-75D2-44DA-99BB-2FEE13E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279F-9233-412B-AE5D-63F3ECAC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BB27-9E4E-41E6-88FC-EF900F1C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64A5-D9CE-43D3-853A-2D26E4DD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171D-9DD8-4A55-B6A4-A33BA422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909F-BC28-43FD-B8BB-7FFE67D7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895E-7665-4CB8-9B06-41CF5686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EB6B-2F10-4FF0-BCAC-E4747BB9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36A6-046F-49A8-AC00-3C3B23E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9628-0C20-4032-A88E-33C5000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2B7B-20CB-412D-A515-CCF9983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D52F-CBC1-4004-9C50-86596A0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84DB-6998-4404-AD33-F479EA94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4B37-59B2-4F91-8DA3-4E157FA1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3F83-798C-486A-8CF0-BF82167B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1C12E-3FD6-4571-8A3F-43D99E3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37D3-7527-4A31-847C-EA1C4D2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F5ED-29A5-4F7E-BA8A-DE23A18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46E9-208F-41FD-9C77-4E24D9C0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4E23-5CAD-4449-B273-D244BD54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71AD-6BF4-445D-BDE8-6DD0B6C6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07BD-7CD0-4AC7-A17D-E5E83AE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6BBD-EC20-4FA0-BF06-790AB28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202C-07B1-4508-BC72-C54CDB5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71F7-4BFF-43C9-B6C4-97DA5DB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E91D-59DD-4CD1-9539-BBB4DCF8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D669-09A2-4C82-9946-FA46DEDD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25811-E625-4871-9EDA-08EB7787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09785-E4CB-4714-85B9-31B158B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3CFD-D113-499B-83B6-A9CD445B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99A13-3D5A-4021-9F84-D97F1D89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6F5BC-12D2-4DDB-9BDF-48C97774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1D02-763A-4D08-B2DA-3D4363D1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FCA1-125C-4281-8323-3FD42B8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D1A5-C7D0-4295-9608-303A1583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B3AB9-9022-44F3-B804-AE96083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D735-6C55-4B3A-8C74-49EC9E56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5CD2-2FE8-49A0-AA55-20600BDE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60663-CD0D-4DE7-95BB-9BEFBA3C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D42C-E15F-40C9-A500-962051D4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2B957-1D7A-4A8D-883D-252F8E4D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71CC-A891-4C15-B1C3-2199E54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6E0B8-655B-420B-8062-ABB5360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854F-70C0-4AD8-9A6F-9663CD0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0AFD-5448-4FCE-8EED-3728034A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AEA81-C7BB-4265-8032-1B98A2F4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D375E-1D40-405A-A45D-448C722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04E94-0E20-4BF6-8E06-C833E8F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FBF8-9CAA-498F-AEA5-1C29A519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9A8C3-C48E-4B15-8488-A1FEFCA9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85CE-F88B-448B-B6B0-D1E58970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D9B1-FFD7-498F-AF9E-FC3AA9A8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55832-CE60-41D1-91D2-21E8978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E2F1-32E2-42C0-96C4-72683F83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DD4-E233-477F-BB8B-F29D840FC3E6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21A1-B495-4640-AF52-FA6F282D07A0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D92-74B4-497C-B3F1-6958F2282585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F31E-7DB9-4F1C-9F8C-F98DE3018F2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B50-30BD-43CF-9DFC-36A7A8360BA5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7D2-5423-4DDB-8D71-735F7CFC749D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F8BA-C92C-4940-AFEA-4D5A24D769F4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0B4-BBB7-47A4-871C-32406E8BB40A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7"/>
          <p:cNvSpPr/>
          <p:nvPr/>
        </p:nvSpPr>
        <p:spPr>
          <a:xfrm>
            <a:off x="8891640" y="181080"/>
            <a:ext cx="250920" cy="6199200"/>
          </a:xfrm>
          <a:prstGeom prst="rect">
            <a:avLst/>
          </a:prstGeom>
          <a:solidFill>
            <a:srgbClr val="ffffff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1547640" y="6381720"/>
            <a:ext cx="75614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0" y="320760"/>
            <a:ext cx="9144000" cy="71280"/>
          </a:xfrm>
          <a:prstGeom prst="rect">
            <a:avLst/>
          </a:prstGeom>
          <a:solidFill>
            <a:srgbClr val="33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1461960" y="63961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Calibri"/>
              </a:rPr>
              <a:t>Centrum pro obnovitelné zdroje a úspory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2"/>
          <p:cNvSpPr/>
          <p:nvPr/>
        </p:nvSpPr>
        <p:spPr>
          <a:xfrm>
            <a:off x="-181080" y="506520"/>
            <a:ext cx="8810640" cy="360360"/>
          </a:xfrm>
          <a:prstGeom prst="roundRect">
            <a:avLst>
              <a:gd name="adj" fmla="val 1674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-71280" y="5205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…………………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4" descr=""/>
          <p:cNvPicPr/>
          <p:nvPr/>
        </p:nvPicPr>
        <p:blipFill>
          <a:blip r:embed="rId2"/>
          <a:stretch/>
        </p:blipFill>
        <p:spPr>
          <a:xfrm>
            <a:off x="96840" y="6145200"/>
            <a:ext cx="1306440" cy="4986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34"/>
          <p:cNvSpPr/>
          <p:nvPr/>
        </p:nvSpPr>
        <p:spPr>
          <a:xfrm>
            <a:off x="5106960" y="0"/>
            <a:ext cx="43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Calibri"/>
              </a:rPr>
              <a:t>www.ekowatt.cz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, www.energetika.cz, www.prukazybudov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2BC3-01AC-4BF8-9C9C-38B85AACF25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kowatt.cz/" TargetMode="External"/><Relationship Id="rId3" Type="http://schemas.openxmlformats.org/officeDocument/2006/relationships/hyperlink" Target="http://www.prukazybudov.cz/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4"/>
          <p:cNvSpPr/>
          <p:nvPr/>
        </p:nvSpPr>
        <p:spPr>
          <a:xfrm>
            <a:off x="8748720" y="404640"/>
            <a:ext cx="39528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0" y="907920"/>
            <a:ext cx="19080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562120" cy="11239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1"/>
          <p:cNvSpPr/>
          <p:nvPr/>
        </p:nvSpPr>
        <p:spPr>
          <a:xfrm>
            <a:off x="2771640" y="155628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alibri"/>
              </a:rPr>
              <a:t>The Renewable Energy and Energy Efficiency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0" y="2276640"/>
            <a:ext cx="6659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 flipH="1">
            <a:off x="3132000" y="4292640"/>
            <a:ext cx="6012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0" y="2276640"/>
            <a:ext cx="9172440" cy="2004840"/>
          </a:xfrm>
          <a:prstGeom prst="rect">
            <a:avLst/>
          </a:prstGeom>
          <a:solidFill>
            <a:srgbClr val="33339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0" y="2520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Úspory a změ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0" y="357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Calibri"/>
              </a:rPr>
              <a:t>Ing. Karel Srdeč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http://new.ekowatt.cz/obrazky/ISO_9001_EW_20.gif"/>
          <p:cNvPicPr/>
          <p:nvPr/>
        </p:nvPicPr>
        <p:blipFill>
          <a:blip r:embed="rId2"/>
          <a:stretch/>
        </p:blipFill>
        <p:spPr>
          <a:xfrm>
            <a:off x="285840" y="5857920"/>
            <a:ext cx="1162080" cy="723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http://new.ekowatt.cz/ico/czgbc_122.png"/>
          <p:cNvPicPr/>
          <p:nvPr/>
        </p:nvPicPr>
        <p:blipFill>
          <a:blip r:embed="rId3"/>
          <a:stretch/>
        </p:blipFill>
        <p:spPr>
          <a:xfrm>
            <a:off x="3143160" y="5643720"/>
            <a:ext cx="908280" cy="10191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http://new.ekowatt.cz/obrazky/iso_14001_ew_20.gif"/>
          <p:cNvPicPr/>
          <p:nvPr/>
        </p:nvPicPr>
        <p:blipFill>
          <a:blip r:embed="rId4"/>
          <a:stretch/>
        </p:blipFill>
        <p:spPr>
          <a:xfrm>
            <a:off x="1643040" y="5857920"/>
            <a:ext cx="1162080" cy="723960"/>
          </a:xfrm>
          <a:prstGeom prst="rect">
            <a:avLst/>
          </a:prstGeom>
          <a:ln w="0">
            <a:noFill/>
          </a:ln>
        </p:spPr>
      </p:pic>
      <p:sp>
        <p:nvSpPr>
          <p:cNvPr id="499" name="Obdélník 16"/>
          <p:cNvSpPr/>
          <p:nvPr/>
        </p:nvSpPr>
        <p:spPr>
          <a:xfrm>
            <a:off x="419040" y="4493160"/>
            <a:ext cx="65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46c0a"/>
                </a:solidFill>
                <a:latin typeface="Calibri"/>
              </a:rPr>
              <a:t>Maloodběratelé a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3" descr=""/>
          <p:cNvPicPr/>
          <p:nvPr/>
        </p:nvPicPr>
        <p:blipFill>
          <a:blip r:embed="rId1"/>
          <a:srcRect l="5452" t="0" r="0" b="0"/>
          <a:stretch/>
        </p:blipFill>
        <p:spPr>
          <a:xfrm>
            <a:off x="431640" y="1514520"/>
            <a:ext cx="8353440" cy="4678200"/>
          </a:xfrm>
          <a:prstGeom prst="rect">
            <a:avLst/>
          </a:prstGeom>
          <a:ln w="0">
            <a:noFill/>
          </a:ln>
        </p:spPr>
      </p:pic>
      <p:sp>
        <p:nvSpPr>
          <p:cNvPr id="528" name="TextovéPole 20"/>
          <p:cNvSpPr/>
          <p:nvPr/>
        </p:nvSpPr>
        <p:spPr>
          <a:xfrm>
            <a:off x="395280" y="1052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pro dosažení ús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468360" y="988920"/>
            <a:ext cx="1285920" cy="10256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9"/>
          <p:cNvSpPr/>
          <p:nvPr/>
        </p:nvSpPr>
        <p:spPr>
          <a:xfrm>
            <a:off x="960480" y="1428840"/>
            <a:ext cx="76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P1180776_2"/>
          <p:cNvPicPr/>
          <p:nvPr/>
        </p:nvPicPr>
        <p:blipFill>
          <a:blip r:embed="rId2"/>
          <a:srcRect l="0" t="0" r="13741" b="13266"/>
          <a:stretch/>
        </p:blipFill>
        <p:spPr>
          <a:xfrm>
            <a:off x="3132000" y="2130480"/>
            <a:ext cx="54849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ovéPole 3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Fotovoltaika pro vlastní  spotř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53272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ovéPole 3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Fotovoltaika pro vlastní  spotř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ovéPole 20"/>
          <p:cNvSpPr/>
          <p:nvPr/>
        </p:nvSpPr>
        <p:spPr>
          <a:xfrm>
            <a:off x="395280" y="1052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tovoltaika: levnější než ze sít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FVE_fabrika"/>
          <p:cNvPicPr/>
          <p:nvPr/>
        </p:nvPicPr>
        <p:blipFill>
          <a:blip r:embed="rId1"/>
          <a:stretch/>
        </p:blipFill>
        <p:spPr>
          <a:xfrm>
            <a:off x="611280" y="3213000"/>
            <a:ext cx="4319640" cy="2854440"/>
          </a:xfrm>
          <a:prstGeom prst="rect">
            <a:avLst/>
          </a:prstGeom>
          <a:ln w="0">
            <a:noFill/>
          </a:ln>
        </p:spPr>
      </p:pic>
      <p:sp>
        <p:nvSpPr>
          <p:cNvPr id="537" name="TextovéPole 20"/>
          <p:cNvSpPr/>
          <p:nvPr/>
        </p:nvSpPr>
        <p:spPr>
          <a:xfrm>
            <a:off x="3263760" y="191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VE &lt; 10 kW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ca 3,40 Kč/k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VE &gt; 50 kW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ca 2,30 Kč/k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Graf 6" descr=""/>
          <p:cNvPicPr/>
          <p:nvPr/>
        </p:nvPicPr>
        <p:blipFill>
          <a:blip r:embed="rId1"/>
          <a:stretch/>
        </p:blipFill>
        <p:spPr>
          <a:xfrm>
            <a:off x="463680" y="1481040"/>
            <a:ext cx="7662600" cy="47973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9"/>
          <p:cNvSpPr/>
          <p:nvPr/>
        </p:nvSpPr>
        <p:spPr>
          <a:xfrm>
            <a:off x="2286000" y="1887480"/>
            <a:ext cx="15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3400 Kč/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2297160" y="2781360"/>
            <a:ext cx="4176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"/>
          <p:cNvSpPr/>
          <p:nvPr/>
        </p:nvSpPr>
        <p:spPr>
          <a:xfrm>
            <a:off x="6485040" y="3573360"/>
            <a:ext cx="143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659640" y="2852640"/>
            <a:ext cx="248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2300 Kč/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ovéPole 9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Cena elektř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1"/>
          <p:cNvSpPr/>
          <p:nvPr/>
        </p:nvSpPr>
        <p:spPr>
          <a:xfrm>
            <a:off x="611280" y="1628640"/>
            <a:ext cx="8001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Snížení spotřeby / efektivní využití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Budovy s téměř nulovou spotřebou (NZ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Fotovolta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Kogenerace / trigen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Odpojení od C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1187280" y="4986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ožadovaná návratnost inve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ovéPole 5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Co nás če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61800" y="1052640"/>
            <a:ext cx="1285920" cy="1025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9"/>
          <p:cNvSpPr/>
          <p:nvPr/>
        </p:nvSpPr>
        <p:spPr>
          <a:xfrm>
            <a:off x="755640" y="1492200"/>
            <a:ext cx="76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Start závodu na d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6"/>
          <p:cNvSpPr/>
          <p:nvPr/>
        </p:nvSpPr>
        <p:spPr>
          <a:xfrm flipH="1">
            <a:off x="2884320" y="3879720"/>
            <a:ext cx="6012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Obrázek 1" descr=""/>
          <p:cNvPicPr/>
          <p:nvPr/>
        </p:nvPicPr>
        <p:blipFill>
          <a:blip r:embed="rId2"/>
          <a:stretch/>
        </p:blipFill>
        <p:spPr>
          <a:xfrm>
            <a:off x="2556000" y="2693880"/>
            <a:ext cx="61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81327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Teplárna České Budějo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Graf 5" descr=""/>
          <p:cNvPicPr/>
          <p:nvPr/>
        </p:nvPicPr>
        <p:blipFill>
          <a:blip r:embed="rId1"/>
          <a:stretch/>
        </p:blipFill>
        <p:spPr>
          <a:xfrm>
            <a:off x="274680" y="920880"/>
            <a:ext cx="5546520" cy="2749320"/>
          </a:xfrm>
          <a:prstGeom prst="rect">
            <a:avLst/>
          </a:prstGeom>
          <a:ln w="0">
            <a:noFill/>
          </a:ln>
        </p:spPr>
      </p:pic>
      <p:pic>
        <p:nvPicPr>
          <p:cNvPr id="553" name="Graf 6" descr=""/>
          <p:cNvPicPr/>
          <p:nvPr/>
        </p:nvPicPr>
        <p:blipFill>
          <a:blip r:embed="rId2"/>
          <a:stretch/>
        </p:blipFill>
        <p:spPr>
          <a:xfrm>
            <a:off x="2835360" y="3524400"/>
            <a:ext cx="5546520" cy="2747880"/>
          </a:xfrm>
          <a:prstGeom prst="rect">
            <a:avLst/>
          </a:prstGeom>
          <a:ln w="0">
            <a:noFill/>
          </a:ln>
        </p:spPr>
      </p:pic>
      <p:sp>
        <p:nvSpPr>
          <p:cNvPr id="554" name="Line 6"/>
          <p:cNvSpPr/>
          <p:nvPr/>
        </p:nvSpPr>
        <p:spPr>
          <a:xfrm>
            <a:off x="1076400" y="1600200"/>
            <a:ext cx="5010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5964120" y="1600200"/>
            <a:ext cx="0" cy="728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6440400" y="1676520"/>
            <a:ext cx="18716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okles o 4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"/>
          <p:cNvSpPr/>
          <p:nvPr/>
        </p:nvSpPr>
        <p:spPr>
          <a:xfrm>
            <a:off x="5448240" y="2328840"/>
            <a:ext cx="638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81327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ozitivní zpětná vaz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ovéPole 20"/>
          <p:cNvSpPr/>
          <p:nvPr/>
        </p:nvSpPr>
        <p:spPr>
          <a:xfrm>
            <a:off x="3059280" y="2035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les odbě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ovéPole 20"/>
          <p:cNvSpPr/>
          <p:nvPr/>
        </p:nvSpPr>
        <p:spPr>
          <a:xfrm>
            <a:off x="579132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výšení ce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ovéPole 20"/>
          <p:cNvSpPr/>
          <p:nvPr/>
        </p:nvSpPr>
        <p:spPr>
          <a:xfrm>
            <a:off x="1139760" y="458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k úspor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 rot="19261800">
            <a:off x="5563800" y="252864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2"/>
          <p:cNvSpPr/>
          <p:nvPr/>
        </p:nvSpPr>
        <p:spPr>
          <a:xfrm rot="13111800">
            <a:off x="2519280" y="252900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6"/>
          <p:cNvSpPr/>
          <p:nvPr/>
        </p:nvSpPr>
        <p:spPr>
          <a:xfrm rot="5400000">
            <a:off x="4210920" y="4156920"/>
            <a:ext cx="287280" cy="1711440"/>
          </a:xfrm>
          <a:prstGeom prst="downArrow">
            <a:avLst>
              <a:gd name="adj1" fmla="val 50000"/>
              <a:gd name="adj2" fmla="val 1489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55480" y="367920"/>
            <a:ext cx="81327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pomalení nevyhnutel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8" descr="Di2453"/>
          <p:cNvPicPr/>
          <p:nvPr/>
        </p:nvPicPr>
        <p:blipFill>
          <a:blip r:embed="rId1"/>
          <a:srcRect l="10918" t="10529" r="4542" b="0"/>
          <a:stretch/>
        </p:blipFill>
        <p:spPr>
          <a:xfrm>
            <a:off x="1425600" y="1125360"/>
            <a:ext cx="6262560" cy="49564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7"/>
          <p:cNvSpPr/>
          <p:nvPr/>
        </p:nvSpPr>
        <p:spPr>
          <a:xfrm rot="20457000">
            <a:off x="1389240" y="18194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ilegáln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čin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28480" y="1268280"/>
            <a:ext cx="1285920" cy="102564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1"/>
          <p:cNvSpPr/>
          <p:nvPr/>
        </p:nvSpPr>
        <p:spPr>
          <a:xfrm>
            <a:off x="1143000" y="1655640"/>
            <a:ext cx="8001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Vím, za co platí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Start závodu na d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Investi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81327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pomalení nevyhnutel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Graf 8" descr=""/>
          <p:cNvPicPr/>
          <p:nvPr/>
        </p:nvPicPr>
        <p:blipFill>
          <a:blip r:embed="rId1"/>
          <a:stretch/>
        </p:blipFill>
        <p:spPr>
          <a:xfrm>
            <a:off x="1042920" y="1554120"/>
            <a:ext cx="65581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361800" y="1052640"/>
            <a:ext cx="1285920" cy="1025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755640" y="1492200"/>
            <a:ext cx="76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Investi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Obrázek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048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7" descr=""/>
          <p:cNvPicPr/>
          <p:nvPr/>
        </p:nvPicPr>
        <p:blipFill>
          <a:blip r:embed="rId1"/>
          <a:stretch/>
        </p:blipFill>
        <p:spPr>
          <a:xfrm>
            <a:off x="324000" y="1655640"/>
            <a:ext cx="8280360" cy="44989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85"/>
          <p:cNvSpPr/>
          <p:nvPr/>
        </p:nvSpPr>
        <p:spPr>
          <a:xfrm>
            <a:off x="6227640" y="1270080"/>
            <a:ext cx="190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2"/>
          <p:cNvSpPr/>
          <p:nvPr/>
        </p:nvSpPr>
        <p:spPr>
          <a:xfrm>
            <a:off x="1523880" y="1262160"/>
            <a:ext cx="609624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 flipV="1">
            <a:off x="755640" y="2204640"/>
            <a:ext cx="6337440" cy="863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6"/>
          <p:cNvSpPr/>
          <p:nvPr/>
        </p:nvSpPr>
        <p:spPr>
          <a:xfrm flipV="1">
            <a:off x="1042920" y="3068280"/>
            <a:ext cx="4249800" cy="360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8"/>
          <p:cNvSpPr/>
          <p:nvPr/>
        </p:nvSpPr>
        <p:spPr>
          <a:xfrm flipV="1">
            <a:off x="5508720" y="3716280"/>
            <a:ext cx="1869840" cy="217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9"/>
          <p:cNvSpPr/>
          <p:nvPr/>
        </p:nvSpPr>
        <p:spPr>
          <a:xfrm flipH="1" flipV="1">
            <a:off x="5292720" y="3068280"/>
            <a:ext cx="216000" cy="865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0"/>
          <p:cNvSpPr/>
          <p:nvPr/>
        </p:nvSpPr>
        <p:spPr>
          <a:xfrm flipH="1" flipV="1">
            <a:off x="899640" y="3068280"/>
            <a:ext cx="142920" cy="360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ovéPole 23"/>
          <p:cNvSpPr/>
          <p:nvPr/>
        </p:nvSpPr>
        <p:spPr>
          <a:xfrm>
            <a:off x="7164360" y="17002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ůvodní provoz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ovéPole 23"/>
          <p:cNvSpPr/>
          <p:nvPr/>
        </p:nvSpPr>
        <p:spPr>
          <a:xfrm>
            <a:off x="7559640" y="3213000"/>
            <a:ext cx="1584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nové provoz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ovéPole 20"/>
          <p:cNvSpPr/>
          <p:nvPr/>
        </p:nvSpPr>
        <p:spPr>
          <a:xfrm>
            <a:off x="324000" y="9921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ergy Performance Contr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Nadpis 7"/>
          <p:cNvSpPr/>
          <p:nvPr/>
        </p:nvSpPr>
        <p:spPr>
          <a:xfrm>
            <a:off x="1335240" y="412920"/>
            <a:ext cx="8130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Financování třetí str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12"/>
          <p:cNvSpPr/>
          <p:nvPr/>
        </p:nvSpPr>
        <p:spPr>
          <a:xfrm>
            <a:off x="905040" y="480960"/>
            <a:ext cx="68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otenciál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d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5"/>
          <p:cNvSpPr/>
          <p:nvPr/>
        </p:nvSpPr>
        <p:spPr>
          <a:xfrm>
            <a:off x="0" y="3309840"/>
            <a:ext cx="190800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9" descr="FVE Dukovany"/>
          <p:cNvPicPr/>
          <p:nvPr/>
        </p:nvPicPr>
        <p:blipFill>
          <a:blip r:embed="rId1"/>
          <a:srcRect l="26753" t="0" r="11025" b="20615"/>
          <a:stretch/>
        </p:blipFill>
        <p:spPr>
          <a:xfrm>
            <a:off x="1908000" y="1147680"/>
            <a:ext cx="5484960" cy="52516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67"/>
          <p:cNvSpPr/>
          <p:nvPr/>
        </p:nvSpPr>
        <p:spPr>
          <a:xfrm>
            <a:off x="5819760" y="1690560"/>
            <a:ext cx="291456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otovoltai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008 až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0 až 200 mld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7"/>
          <p:cNvSpPr/>
          <p:nvPr/>
        </p:nvSpPr>
        <p:spPr>
          <a:xfrm>
            <a:off x="539640" y="2527200"/>
            <a:ext cx="2602080" cy="15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Temelí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030 až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00 až 300 mld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1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2"/>
          <p:cNvSpPr/>
          <p:nvPr/>
        </p:nvSpPr>
        <p:spPr>
          <a:xfrm>
            <a:off x="8748720" y="928800"/>
            <a:ext cx="395280" cy="59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6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2016000" cy="884160"/>
          </a:xfrm>
          <a:prstGeom prst="rect">
            <a:avLst/>
          </a:prstGeom>
          <a:ln w="0">
            <a:noFill/>
          </a:ln>
        </p:spPr>
      </p:pic>
      <p:sp>
        <p:nvSpPr>
          <p:cNvPr id="595" name="Line 18"/>
          <p:cNvSpPr/>
          <p:nvPr/>
        </p:nvSpPr>
        <p:spPr>
          <a:xfrm>
            <a:off x="2484360" y="2781360"/>
            <a:ext cx="6659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9"/>
          <p:cNvSpPr/>
          <p:nvPr/>
        </p:nvSpPr>
        <p:spPr>
          <a:xfrm flipH="1">
            <a:off x="0" y="6237360"/>
            <a:ext cx="608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3"/>
          <p:cNvSpPr/>
          <p:nvPr/>
        </p:nvSpPr>
        <p:spPr>
          <a:xfrm>
            <a:off x="826920" y="12848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řeji vám dostatek ener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délník 12"/>
          <p:cNvSpPr/>
          <p:nvPr/>
        </p:nvSpPr>
        <p:spPr>
          <a:xfrm>
            <a:off x="3132000" y="630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kowatt.cz</a:t>
            </a:r>
            <a:r>
              <a:rPr b="0" i="1" lang="cs-CZ" sz="2400" spc="-1" strike="noStrike">
                <a:solidFill>
                  <a:srgbClr val="333399"/>
                </a:solidFill>
                <a:latin typeface="Calibri"/>
              </a:rPr>
              <a:t>,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prukazybudov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4572000" y="3931200"/>
            <a:ext cx="43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Ing. </a:t>
            </a:r>
            <a:r>
              <a:rPr b="1" lang="cs-CZ" sz="2400" spc="-1" strike="noStrike">
                <a:solidFill>
                  <a:srgbClr val="333399"/>
                </a:solidFill>
                <a:latin typeface="Calibri"/>
              </a:rPr>
              <a:t>Karel Srdeč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alibri"/>
              </a:rPr>
              <a:t>Žižkova 1, Č. Buděj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alibri"/>
              </a:rPr>
              <a:t>tel.: 774 697 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Calibri"/>
              </a:rPr>
              <a:t>e-mail: cb</a:t>
            </a:r>
            <a:r>
              <a:rPr b="0" i="1" lang="en-US" sz="2400" spc="-1" strike="noStrike">
                <a:solidFill>
                  <a:srgbClr val="333399"/>
                </a:solidFill>
                <a:latin typeface="Calibri"/>
              </a:rPr>
              <a:t>@ekowat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1" descr="DSCF0031"/>
          <p:cNvPicPr/>
          <p:nvPr/>
        </p:nvPicPr>
        <p:blipFill>
          <a:blip r:embed="rId4"/>
          <a:srcRect l="15975" t="25830" r="8527" b="0"/>
          <a:stretch/>
        </p:blipFill>
        <p:spPr>
          <a:xfrm>
            <a:off x="468360" y="2924280"/>
            <a:ext cx="40323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361800" y="1268280"/>
            <a:ext cx="1285920" cy="10256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9"/>
          <p:cNvSpPr/>
          <p:nvPr/>
        </p:nvSpPr>
        <p:spPr>
          <a:xfrm>
            <a:off x="826920" y="1720800"/>
            <a:ext cx="76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1. </a:t>
            </a: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Vím, za co platí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0" descr=""/>
          <p:cNvPicPr/>
          <p:nvPr/>
        </p:nvPicPr>
        <p:blipFill>
          <a:blip r:embed="rId2"/>
          <a:stretch/>
        </p:blipFill>
        <p:spPr>
          <a:xfrm>
            <a:off x="5292720" y="1238400"/>
            <a:ext cx="35892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ovéPole 3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ědí, za co pla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ovéPole 20"/>
          <p:cNvSpPr/>
          <p:nvPr/>
        </p:nvSpPr>
        <p:spPr>
          <a:xfrm>
            <a:off x="395280" y="1268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de začít s úsporam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Graf 7" descr=""/>
          <p:cNvPicPr/>
          <p:nvPr/>
        </p:nvPicPr>
        <p:blipFill>
          <a:blip r:embed="rId1"/>
          <a:stretch/>
        </p:blipFill>
        <p:spPr>
          <a:xfrm>
            <a:off x="682560" y="2200320"/>
            <a:ext cx="4316400" cy="3139920"/>
          </a:xfrm>
          <a:prstGeom prst="rect">
            <a:avLst/>
          </a:prstGeom>
          <a:ln w="0">
            <a:noFill/>
          </a:ln>
        </p:spPr>
      </p:pic>
      <p:pic>
        <p:nvPicPr>
          <p:cNvPr id="508" name="Graf 8" descr=""/>
          <p:cNvPicPr/>
          <p:nvPr/>
        </p:nvPicPr>
        <p:blipFill>
          <a:blip r:embed="rId2"/>
          <a:stretch/>
        </p:blipFill>
        <p:spPr>
          <a:xfrm>
            <a:off x="4370400" y="2200320"/>
            <a:ext cx="3968640" cy="3182760"/>
          </a:xfrm>
          <a:prstGeom prst="rect">
            <a:avLst/>
          </a:prstGeom>
          <a:ln w="0">
            <a:noFill/>
          </a:ln>
        </p:spPr>
      </p:pic>
      <p:sp>
        <p:nvSpPr>
          <p:cNvPr id="509" name="TextovéPole 20"/>
          <p:cNvSpPr/>
          <p:nvPr/>
        </p:nvSpPr>
        <p:spPr>
          <a:xfrm>
            <a:off x="2340000" y="5319720"/>
            <a:ext cx="52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Wh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ovéPole 3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Neznalý spotřebit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ovéPole 20"/>
          <p:cNvSpPr/>
          <p:nvPr/>
        </p:nvSpPr>
        <p:spPr>
          <a:xfrm>
            <a:off x="395280" y="1052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yúčtování a spotře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7"/>
          <p:cNvGraphicFramePr/>
          <p:nvPr/>
        </p:nvGraphicFramePr>
        <p:xfrm>
          <a:off x="395280" y="1700280"/>
          <a:ext cx="801036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80103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Rectangle 8"/>
          <p:cNvSpPr/>
          <p:nvPr/>
        </p:nvSpPr>
        <p:spPr>
          <a:xfrm rot="20907600">
            <a:off x="2411280" y="4220640"/>
            <a:ext cx="6475680" cy="113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marL="533520" indent="-533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o změně fakturačního měřidla klesly náklady o 80 tis. Kč ročně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ovéPole 20"/>
          <p:cNvSpPr/>
          <p:nvPr/>
        </p:nvSpPr>
        <p:spPr>
          <a:xfrm>
            <a:off x="395280" y="1052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yúčtování a spotře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Graf 8" descr=""/>
          <p:cNvPicPr/>
          <p:nvPr/>
        </p:nvPicPr>
        <p:blipFill>
          <a:blip r:embed="rId1"/>
          <a:stretch/>
        </p:blipFill>
        <p:spPr>
          <a:xfrm>
            <a:off x="536400" y="1749600"/>
            <a:ext cx="7925040" cy="4249440"/>
          </a:xfrm>
          <a:prstGeom prst="rect">
            <a:avLst/>
          </a:prstGeom>
          <a:ln w="0">
            <a:noFill/>
          </a:ln>
        </p:spPr>
      </p:pic>
      <p:sp>
        <p:nvSpPr>
          <p:cNvPr id="517" name="TextovéPole 9"/>
          <p:cNvSpPr/>
          <p:nvPr/>
        </p:nvSpPr>
        <p:spPr>
          <a:xfrm>
            <a:off x="1476360" y="47772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Neznalý spotřebit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ovéPole 3"/>
          <p:cNvSpPr/>
          <p:nvPr/>
        </p:nvSpPr>
        <p:spPr>
          <a:xfrm>
            <a:off x="1714680" y="482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Úspory jako b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ovéPole 20"/>
          <p:cNvSpPr/>
          <p:nvPr/>
        </p:nvSpPr>
        <p:spPr>
          <a:xfrm>
            <a:off x="395280" y="1052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mfort a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Graf 5" descr=""/>
          <p:cNvPicPr/>
          <p:nvPr/>
        </p:nvPicPr>
        <p:blipFill>
          <a:blip r:embed="rId1"/>
          <a:stretch/>
        </p:blipFill>
        <p:spPr>
          <a:xfrm>
            <a:off x="360360" y="1768320"/>
            <a:ext cx="8442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361800" y="1052640"/>
            <a:ext cx="1285920" cy="1025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9"/>
          <p:cNvSpPr/>
          <p:nvPr/>
        </p:nvSpPr>
        <p:spPr>
          <a:xfrm>
            <a:off x="755640" y="1492200"/>
            <a:ext cx="76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1" lang="cs-CZ" sz="3200" spc="-1" strike="noStrike">
                <a:solidFill>
                  <a:srgbClr val="333399"/>
                </a:solidFill>
                <a:latin typeface="Calibri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2884320" y="3879720"/>
            <a:ext cx="6012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rcRect l="15441" t="24955" r="1037" b="0"/>
          <a:stretch/>
        </p:blipFill>
        <p:spPr>
          <a:xfrm>
            <a:off x="1403280" y="2452680"/>
            <a:ext cx="7342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31"/>
          <p:cNvSpPr/>
          <p:nvPr/>
        </p:nvSpPr>
        <p:spPr>
          <a:xfrm>
            <a:off x="611280" y="162864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Faci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M&amp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BIM projekt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Calibri"/>
              </a:rPr>
              <a:t>Inteligentní bu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1"/>
          <p:cNvSpPr/>
          <p:nvPr/>
        </p:nvSpPr>
        <p:spPr>
          <a:xfrm>
            <a:off x="1187280" y="4986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Komfort, zdraví, bezpečnost, předpisy, pení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03:37Z</dcterms:created>
  <dc:creator>Karel</dc:creator>
  <dc:description/>
  <dc:language>en-US</dc:language>
  <cp:lastModifiedBy>Vit Jasek</cp:lastModifiedBy>
  <dcterms:modified xsi:type="dcterms:W3CDTF">2015-10-21T07:27:10Z</dcterms:modified>
  <cp:revision>273</cp:revision>
  <dc:subject/>
  <dc:title>Snímek 1</dc:title>
</cp:coreProperties>
</file>