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3003213" cy="9752013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8716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marL="133560" indent="-133560" algn="ctr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89440" indent="-111240" algn="ctr"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445680" indent="-88920" algn="ctr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623880" indent="-88920" algn="ctr"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cewep.eu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82480" y="1204560"/>
            <a:ext cx="11738160" cy="30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Energetické využívání odpadů</a:t>
            </a:r>
            <a:br>
              <a:rPr sz="5800"/>
            </a:br>
            <a:r>
              <a:rPr b="1" lang="cs-CZ" sz="5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integrální součást oběhového hospodářství</a:t>
            </a:r>
            <a:endParaRPr b="0" lang="en-US" sz="5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73160" y="4300560"/>
            <a:ext cx="12573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Jaromír Manhar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Odbor odpadů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Ministerstvo životního prostředí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UZS, Šetrná energetika a přeměna odpadů na zdro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aha, 22. 10. 2015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46320" y="2428920"/>
            <a:ext cx="10464840" cy="5605560"/>
          </a:xfrm>
          <a:prstGeom prst="rect">
            <a:avLst/>
          </a:prstGeom>
          <a:ln w="0">
            <a:noFill/>
          </a:ln>
        </p:spPr>
      </p:pic>
      <p:sp>
        <p:nvSpPr>
          <p:cNvPr id="61" name="Nadpis 1"/>
          <p:cNvSpPr/>
          <p:nvPr/>
        </p:nvSpPr>
        <p:spPr>
          <a:xfrm>
            <a:off x="1246320" y="196920"/>
            <a:ext cx="10464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8000"/>
                </a:solidFill>
                <a:uFillTx/>
                <a:latin typeface="Verdana Bold"/>
                <a:ea typeface="Arial"/>
              </a:rPr>
              <a:t>Energetické využití komunálních odpadů</a:t>
            </a:r>
            <a:br>
              <a:rPr sz="4000"/>
            </a:br>
            <a:r>
              <a:rPr b="1" lang="cs-CZ" sz="4000" spc="-1" strike="noStrike" u="sng">
                <a:solidFill>
                  <a:srgbClr val="008000"/>
                </a:solidFill>
                <a:uFillTx/>
                <a:latin typeface="Verdana Bold"/>
                <a:ea typeface="Arial"/>
              </a:rPr>
              <a:t>v EU a USA (2012-2015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1150920" y="7924680"/>
            <a:ext cx="1065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Zdroj: ISWA, 6th Edition, Waste-to-Energy State of the Art, August 2012, CEWEP 2015, 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cewep.eu</a:t>
            </a:r>
            <a:r>
              <a:rPr b="1" lang="cs-CZ" sz="12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, 2015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Zástupný symbol pro obsah 2"/>
          <p:cNvSpPr/>
          <p:nvPr/>
        </p:nvSpPr>
        <p:spPr>
          <a:xfrm>
            <a:off x="598320" y="1492200"/>
            <a:ext cx="1166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čet zařízení (komunální odpad) v EU – 48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čet zařízení v USA – 86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římá spojnice 7"/>
          <p:cNvSpPr/>
          <p:nvPr/>
        </p:nvSpPr>
        <p:spPr>
          <a:xfrm flipV="1">
            <a:off x="2830680" y="7036920"/>
            <a:ext cx="1079280" cy="88740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202040" y="412560"/>
            <a:ext cx="15697080" cy="1439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8000"/>
                </a:solidFill>
                <a:latin typeface="Verdana"/>
                <a:ea typeface="Arial"/>
              </a:rPr>
              <a:t>stav zápasu</a:t>
            </a:r>
            <a:br>
              <a:rPr sz="4400"/>
            </a:br>
            <a:r>
              <a:rPr b="1" lang="cs-CZ" sz="4000" spc="-1" strike="noStrike" u="sng">
                <a:solidFill>
                  <a:srgbClr val="008000"/>
                </a:solidFill>
                <a:uFillTx/>
                <a:latin typeface="Verdana"/>
                <a:ea typeface="Arial"/>
              </a:rPr>
              <a:t>SKLÁDKOVÁNÍ : (SPOLU)SPALOVÁNÍ(EVO)</a:t>
            </a:r>
            <a:endParaRPr b="0" lang="en-US" sz="40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5240" y="2572920"/>
            <a:ext cx="12530160" cy="4535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6000"/>
          </a:bodyPr>
          <a:p>
            <a:pPr lvl="1" marL="603360" indent="0" algn="just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S-OO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152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ZEVO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    3a1/2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0" algn="just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S-IO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  39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Cementárny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    5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0" algn="just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S-NO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  25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NO-spalovny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4600" spc="-1" strike="noStrike">
                <a:solidFill>
                  <a:srgbClr val="000000"/>
                </a:solidFill>
                <a:latin typeface="Arial"/>
                <a:ea typeface="Arial"/>
              </a:rPr>
              <a:t>  25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0" algn="just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0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av před poločasem </a:t>
            </a:r>
            <a:r>
              <a:rPr b="1" lang="cs-CZ" sz="8000" spc="-1" strike="noStrike">
                <a:solidFill>
                  <a:srgbClr val="000000"/>
                </a:solidFill>
                <a:latin typeface="Arial"/>
                <a:ea typeface="Arial"/>
              </a:rPr>
              <a:t>216 : 33,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0" algn="ctr">
              <a:lnSpc>
                <a:spcPct val="100000"/>
              </a:lnSpc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9240" y="339480"/>
            <a:ext cx="12363480" cy="1152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  <a:ea typeface="Arial"/>
              </a:rPr>
              <a:t>Kde jsme a kam vlastně směřujeme</a:t>
            </a:r>
            <a:br>
              <a:rPr sz="4400"/>
            </a:b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  <a:ea typeface="Arial"/>
              </a:rPr>
              <a:t>v komunálních odpadech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287280" y="1563840"/>
            <a:ext cx="13343040" cy="669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45960" y="339480"/>
            <a:ext cx="1046484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… </a:t>
            </a: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A CO DÁL?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41240" y="1636560"/>
            <a:ext cx="12025440" cy="640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krajskými úřady připravíme realistické KPOH pro Č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ředstavíme strukturu poplatků za skládkování odpadů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ředložíme návrhy §§ znění obou zákonů o odpadec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mezíme skládkování využitelných odpadů na minimum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ředložíme na existujících příkladech z ČR, že to jde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áme investorům „zelenou“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Rozpohybujeme třídící a zpracovatelský průmys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ivně spolupracovat s Evropskou komisí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všem VÁS informova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699840"/>
            <a:ext cx="11363040" cy="208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8000"/>
                </a:solidFill>
                <a:latin typeface="Arial"/>
              </a:rPr>
              <a:t>DĚKUJI VÁM ZA POZORNOST</a:t>
            </a:r>
            <a:r>
              <a:rPr b="1" lang="cs-CZ" sz="7000" spc="-1" strike="noStrike">
                <a:solidFill>
                  <a:srgbClr val="000000"/>
                </a:solidFill>
                <a:latin typeface="Verdana Bold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7960" y="2644560"/>
            <a:ext cx="11053800" cy="2376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42000"/>
          </a:bodyPr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aromír Manh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odboru od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Ministerstvo životního prostřed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romir.manhart@mzp.c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ttp://www.mzp.cz/cz/odpadove_hospodarstvi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65240" y="2068560"/>
            <a:ext cx="11014200" cy="6375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1208160" y="339840"/>
            <a:ext cx="10658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Oběhové hospodářství - odpad jako zdroj 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224000" y="7904160"/>
            <a:ext cx="1065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Zdroj: ETC/SCP E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5960" y="196560"/>
            <a:ext cx="10464840" cy="165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 u="sng">
                <a:solidFill>
                  <a:srgbClr val="008000"/>
                </a:solidFill>
                <a:uFillTx/>
                <a:latin typeface="Verdana"/>
              </a:rPr>
              <a:t>Priority ČR v oblasti oběhového hospodářství</a:t>
            </a:r>
            <a:endParaRPr b="0" lang="en-US" sz="50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996920"/>
            <a:ext cx="12242880" cy="56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Omezování skládkování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Prevence vzniku odpadů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Podpora recyklace odpadů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Realistické cíle pro recyklaci odpadů a odpadů z obalů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Adekvátní postavení energetického využití odpadů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Snižování spotřeby primárních surovin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Podpora zpracovatelského průmyslu v EU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Vytvoření vhodného prostředí pro zvýšení spotřeby druhotných surovin (ekonomické nástroje)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  <a:ea typeface="Arial"/>
              </a:rPr>
              <a:t>Výpočtové metody, statistika, reporting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5960" y="412560"/>
            <a:ext cx="10464840" cy="122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8000"/>
                </a:solidFill>
                <a:uFillTx/>
                <a:latin typeface="Verdana"/>
              </a:rPr>
              <a:t>Nový balíček k oběhovému hospodářství</a:t>
            </a:r>
            <a:endParaRPr b="0" lang="en-US" sz="40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9600" y="1708200"/>
            <a:ext cx="12314160" cy="640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Připravován nový balíček – „komplexnější“, „ambicióznější“ – zaměření na více oblastí (ekodesign, chemické látky, celý životní cyklus výrobků atd.)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Zaměření dotazníku k veřejné konzultaci – výrobní fáze, spotřební fáze, trh s druhotnými surovinami, sektorová opatření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ČR se zapojila do veřejné konzultac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Identifikace prioritních oblastí pro ČR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Podle programu EK na rok 2015 bude nový balíček předložen do konce roku 2015 (předpoklad 2. prosince 2015)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600" y="123480"/>
            <a:ext cx="12098160" cy="158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Kroky MŽP k oběhovému hospodářství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781280"/>
            <a:ext cx="12242880" cy="648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Přijetí nového Plánu odpadového hospodářství 2015 – 2024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Zavedení povinného třídění dalších složek komunálních odpadů - bioodpadů a kovů od roku 2015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Legislativní zamezení skládkování vybraných druhů odpadů od roku 2024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Finanční podpora odpadového hospodářství prostřednictvím OPŽP 2007 – 2013 a OPŽP 2014 – 2020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Příprava nové legislativy – zákon o odpadech, zákon o výrobcích s ukončenou životností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  <a:ea typeface="Arial"/>
              </a:rPr>
              <a:t>Diskuse ke změnám ekonomických nástrojů – poplatek za ukládání odpadů na skládky … ZA KOLIK?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45960" y="844200"/>
            <a:ext cx="1046484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ODPADY V DATECH – 2014</a:t>
            </a:r>
            <a:br>
              <a:rPr sz="4400"/>
            </a:b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ČESKÁ REPUBLIKA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19040" y="1852560"/>
            <a:ext cx="12030120" cy="279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81200" y="4804920"/>
            <a:ext cx="11306160" cy="33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30,46 mil. tun ostatní odpa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1,56 mil. tun nebezpečné odpad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79,5 % materiálově využito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3,5 % energeticky využito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10,3 % skládkováno bez využit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5960" y="844200"/>
            <a:ext cx="1046484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ODPADY V DATECH – 2014</a:t>
            </a:r>
            <a:br>
              <a:rPr sz="4400"/>
            </a:br>
            <a:r>
              <a:rPr b="1" lang="cs-CZ" sz="4400" spc="-1" strike="noStrike" u="sng">
                <a:solidFill>
                  <a:srgbClr val="008000"/>
                </a:solidFill>
                <a:uFillTx/>
                <a:latin typeface="Verdana"/>
              </a:rPr>
              <a:t>KOMUNÁLNÍ ODPADY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53960" y="1924200"/>
            <a:ext cx="11922120" cy="302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81200" y="4804920"/>
            <a:ext cx="11306160" cy="33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17 % z celkového množství odpadu v Č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506 kg na občana Č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34,8 % materiálově využito (2013 - 30,2 %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11,8 % energeticky využito (2013 – 11,9 %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48,3 % skládkováno bez využití (2013 – 52,2 %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5600" y="196560"/>
            <a:ext cx="11666520" cy="1622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12% energetické využití KO v ČR </a:t>
            </a:r>
            <a:br>
              <a:rPr sz="5000"/>
            </a:br>
            <a:r>
              <a:rPr b="1" lang="cs-CZ" sz="50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a stávající 3,5 zařízení </a:t>
            </a:r>
            <a:endParaRPr b="0" lang="en-US" sz="50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9400" y="1420560"/>
            <a:ext cx="12023640" cy="576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3000"/>
          </a:bodyPr>
          <a:p>
            <a:pPr lvl="1" marL="907560" indent="0" algn="just">
              <a:lnSpc>
                <a:spcPct val="100000"/>
              </a:lnSpc>
              <a:buNone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AKO Brn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pacita cca 240 tis. t/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EVO Praha Maleš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pacita 310 tis. t/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ERMIZO Liber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-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pacita 96 tis. t/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EVO Chotík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pacita 95 tis. t/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šechna 3 ZEVO splňují podmínku energetické účinnosti dle 98/2008/ES, ZEVO Chotíkov svou účinnost teprve potvrdí ve zkušebním provoz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560" indent="0" algn="just">
              <a:lnSpc>
                <a:spcPct val="100000"/>
              </a:lnSpc>
              <a:buNone/>
              <a:tabLst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C:\Documents and Settings\user\Dokumenty\_Dokumenty PC\DOCUMENTOS\leták evo\Termizo_2.jpg"/>
          <p:cNvPicPr/>
          <p:nvPr/>
        </p:nvPicPr>
        <p:blipFill>
          <a:blip r:embed="rId1"/>
          <a:stretch/>
        </p:blipFill>
        <p:spPr>
          <a:xfrm>
            <a:off x="7365960" y="1996920"/>
            <a:ext cx="3889440" cy="5391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-379440"/>
            <a:ext cx="13847760" cy="10441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;Jaromír Manhart</dc:creator>
  <dc:description/>
  <dc:language>en-US</dc:language>
  <cp:lastModifiedBy>user</cp:lastModifiedBy>
  <cp:lastPrinted>2014-09-08T10:27:15Z</cp:lastPrinted>
  <dcterms:modified xsi:type="dcterms:W3CDTF">2015-10-21T17:59:04Z</dcterms:modified>
  <cp:revision>718</cp:revision>
  <dc:subject/>
  <dc:title>Prezentace aplikace PowerPoint</dc:title>
</cp:coreProperties>
</file>