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-360" y="81252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rebuchet MS"/>
              </a:rPr>
              <a:t>Click to move the slide</a:t>
            </a:r>
            <a:endParaRPr b="1" lang="en-US" sz="20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43660-F8BF-45B3-A5FE-D59CBFE27A89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7F44CC-D90D-4F8E-8676-16BABB68D015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0" y="8128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0" y="8128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Zástupný symbol pro číslo snímku 3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4FD17-3D97-4B0D-A389-B65E05C9DDF1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8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Zástupný symbol pro číslo snímku 3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D47BF-BA78-49C1-9B08-14FC278A2B0B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0" y="8128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Zástupný symbol pro číslo snímku 3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F26C7-49AB-4456-8DDA-86CA855ABB1B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9BCF-1EE5-4C2F-AA29-4F51CA84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431280"/>
            <a:ext cx="906948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619280"/>
            <a:ext cx="906948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920" y="4302720"/>
            <a:ext cx="906948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B958-CAB1-491E-BC55-876CF0AB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000" y="431280"/>
            <a:ext cx="906948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2920" y="1619280"/>
            <a:ext cx="442584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0520" y="1619280"/>
            <a:ext cx="442584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2920" y="4302720"/>
            <a:ext cx="442584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0520" y="4302720"/>
            <a:ext cx="442584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3335-61A2-4531-87E8-980E8875E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000" y="431280"/>
            <a:ext cx="906948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2920" y="1619280"/>
            <a:ext cx="291996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69400" y="1619280"/>
            <a:ext cx="291996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35520" y="1619280"/>
            <a:ext cx="291996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2920" y="4302720"/>
            <a:ext cx="291996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69400" y="4302720"/>
            <a:ext cx="291996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35520" y="4302720"/>
            <a:ext cx="291996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7886-794C-46D5-BA58-646A77C1F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431280"/>
            <a:ext cx="906948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2920" y="1619280"/>
            <a:ext cx="9069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FEA4-23ED-42D4-944B-8008D179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431280"/>
            <a:ext cx="906948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619280"/>
            <a:ext cx="9069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9B9F-21DC-4CF8-AE7F-E7C48F23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431280"/>
            <a:ext cx="906948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2920" y="1619280"/>
            <a:ext cx="442584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0520" y="1619280"/>
            <a:ext cx="442584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0E5A-2096-4AA6-8611-2929D810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431280"/>
            <a:ext cx="906948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D9E0-621E-44A7-81F1-1D05566E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000" y="431280"/>
            <a:ext cx="9069480" cy="16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4587-60F5-4CAC-8410-1666213B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431280"/>
            <a:ext cx="906948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619280"/>
            <a:ext cx="442584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0520" y="1619280"/>
            <a:ext cx="442584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2920" y="4302720"/>
            <a:ext cx="442584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038D-1B9A-4F06-8AE4-F1CB3B2B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431280"/>
            <a:ext cx="906948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619280"/>
            <a:ext cx="442584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0520" y="1619280"/>
            <a:ext cx="442584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0520" y="4302720"/>
            <a:ext cx="442584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206C-74ED-42BC-95E2-95FF6698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431280"/>
            <a:ext cx="906948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619280"/>
            <a:ext cx="442584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0520" y="1619280"/>
            <a:ext cx="442584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302720"/>
            <a:ext cx="906948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581A-CD76-4935-896B-AF2F0166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1260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431280"/>
            <a:ext cx="906948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rebuchet MS"/>
              </a:rPr>
              <a:t>Click to edit the title text format</a:t>
            </a:r>
            <a:endParaRPr b="1" lang="en-US" sz="20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619280"/>
            <a:ext cx="9069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rebuchet MS"/>
                <a:ea typeface="Arial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937DF9-EC4A-40D2-869D-796F6BBF3C08}" type="slidenum">
              <a:rPr b="0" lang="cs-CZ" sz="1400" spc="-1" strike="noStrike">
                <a:solidFill>
                  <a:srgbClr val="000000"/>
                </a:solidFill>
                <a:latin typeface="Trebuchet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7"/>
          <p:cNvSpPr/>
          <p:nvPr/>
        </p:nvSpPr>
        <p:spPr>
          <a:xfrm>
            <a:off x="7056360" y="179280"/>
            <a:ext cx="2592360" cy="9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8" descr=""/>
          <p:cNvPicPr/>
          <p:nvPr/>
        </p:nvPicPr>
        <p:blipFill>
          <a:blip r:embed="rId3"/>
          <a:stretch/>
        </p:blipFill>
        <p:spPr>
          <a:xfrm>
            <a:off x="7128000" y="247680"/>
            <a:ext cx="2340000" cy="76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539280"/>
            <a:ext cx="907092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Trebuchet MS"/>
              </a:rPr>
              <a:t> </a:t>
            </a:r>
            <a:endParaRPr b="1" lang="en-US" sz="20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52" name="AutoShape 3"/>
          <p:cNvSpPr/>
          <p:nvPr/>
        </p:nvSpPr>
        <p:spPr>
          <a:xfrm>
            <a:off x="1263600" y="5670720"/>
            <a:ext cx="6767640" cy="172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911240" y="5832000"/>
            <a:ext cx="6516720" cy="11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333333"/>
                </a:solidFill>
                <a:latin typeface="Trebuchet MS"/>
              </a:rPr>
              <a:t>Martin Sedlák, Aliance pro energetickou soběstačnost, Česká fotovoltaická průmyslová asocia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333333"/>
                </a:solidFill>
                <a:latin typeface="Trebuchet MS"/>
              </a:rPr>
              <a:t>22. října 2015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4" name="obrázek 2" descr=""/>
          <p:cNvPicPr/>
          <p:nvPr/>
        </p:nvPicPr>
        <p:blipFill>
          <a:blip r:embed="rId1"/>
          <a:stretch/>
        </p:blipFill>
        <p:spPr>
          <a:xfrm>
            <a:off x="4556160" y="179280"/>
            <a:ext cx="2284200" cy="863640"/>
          </a:xfrm>
          <a:prstGeom prst="rect">
            <a:avLst/>
          </a:prstGeom>
          <a:ln w="0">
            <a:noFill/>
          </a:ln>
        </p:spPr>
      </p:pic>
      <p:pic>
        <p:nvPicPr>
          <p:cNvPr id="55" name="Obrázek 1" descr=""/>
          <p:cNvPicPr/>
          <p:nvPr/>
        </p:nvPicPr>
        <p:blipFill>
          <a:blip r:embed="rId2"/>
          <a:stretch/>
        </p:blipFill>
        <p:spPr>
          <a:xfrm>
            <a:off x="1263600" y="1692360"/>
            <a:ext cx="7561440" cy="41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6920" y="323640"/>
            <a:ext cx="392436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800" spc="-1" strike="noStrike">
                <a:solidFill>
                  <a:srgbClr val="0070c0"/>
                </a:solidFill>
                <a:latin typeface="Trebuchet MS"/>
              </a:rPr>
              <a:t>Desetiletí s OZE</a:t>
            </a:r>
            <a:endParaRPr b="1" lang="en-US" sz="3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155520" y="-1227240"/>
            <a:ext cx="397188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155520" y="-1227240"/>
            <a:ext cx="397188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>
            <a:off x="155520" y="-1227240"/>
            <a:ext cx="397188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2"/>
          <p:cNvSpPr/>
          <p:nvPr/>
        </p:nvSpPr>
        <p:spPr>
          <a:xfrm>
            <a:off x="155520" y="-1227240"/>
            <a:ext cx="397188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4"/>
          <p:cNvSpPr/>
          <p:nvPr/>
        </p:nvSpPr>
        <p:spPr>
          <a:xfrm>
            <a:off x="155520" y="-1227240"/>
            <a:ext cx="397188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rázek 2" descr=""/>
          <p:cNvPicPr/>
          <p:nvPr/>
        </p:nvPicPr>
        <p:blipFill>
          <a:blip r:embed="rId1"/>
          <a:stretch/>
        </p:blipFill>
        <p:spPr>
          <a:xfrm>
            <a:off x="4556160" y="179280"/>
            <a:ext cx="2284200" cy="863640"/>
          </a:xfrm>
          <a:prstGeom prst="rect">
            <a:avLst/>
          </a:prstGeom>
          <a:ln w="0">
            <a:noFill/>
          </a:ln>
        </p:spPr>
      </p:pic>
      <p:pic>
        <p:nvPicPr>
          <p:cNvPr id="63" name="Obrázek 1" descr=""/>
          <p:cNvPicPr/>
          <p:nvPr/>
        </p:nvPicPr>
        <p:blipFill>
          <a:blip r:embed="rId2"/>
          <a:stretch/>
        </p:blipFill>
        <p:spPr>
          <a:xfrm>
            <a:off x="5400720" y="1258920"/>
            <a:ext cx="4422600" cy="62056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"/>
          <p:cNvSpPr/>
          <p:nvPr/>
        </p:nvSpPr>
        <p:spPr>
          <a:xfrm>
            <a:off x="287280" y="1332000"/>
            <a:ext cx="496908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4000"/>
              </a:lnSpc>
              <a:spcAft>
                <a:spcPts val="1426"/>
              </a:spcAft>
              <a:buClr>
                <a:srgbClr val="0070c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Trebuchet MS"/>
                <a:ea typeface="Microsoft YaHei"/>
              </a:rPr>
              <a:t>Zákon 180/2005 vstoupil v platnost 1. 1. 2006 a vytvořil nejdůležitější impuls pro růst šetrné energetiky 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Aft>
                <a:spcPts val="1426"/>
              </a:spcAft>
              <a:buClr>
                <a:srgbClr val="0070c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Trebuchet MS"/>
                <a:ea typeface="Microsoft YaHei"/>
              </a:rPr>
              <a:t>Pojďme najít příklady dobré praxe mezi projekty vodních, větrných, solárních elektráren, bioplynovými stanicemi či zdroji na spalování biomas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Aft>
                <a:spcPts val="1426"/>
              </a:spcAft>
              <a:buClr>
                <a:srgbClr val="0070c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6920" y="323640"/>
            <a:ext cx="392436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800" spc="-1" strike="noStrike">
                <a:solidFill>
                  <a:srgbClr val="0070c0"/>
                </a:solidFill>
                <a:latin typeface="Trebuchet MS"/>
              </a:rPr>
              <a:t>Desetiletí s OZE</a:t>
            </a:r>
            <a:endParaRPr b="1" lang="en-US" sz="3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155520" y="-1227240"/>
            <a:ext cx="397188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155520" y="-1227240"/>
            <a:ext cx="397188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155520" y="-1227240"/>
            <a:ext cx="397188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2"/>
          <p:cNvSpPr/>
          <p:nvPr/>
        </p:nvSpPr>
        <p:spPr>
          <a:xfrm>
            <a:off x="155520" y="-1227240"/>
            <a:ext cx="397188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4"/>
          <p:cNvSpPr/>
          <p:nvPr/>
        </p:nvSpPr>
        <p:spPr>
          <a:xfrm>
            <a:off x="155520" y="-1227240"/>
            <a:ext cx="397188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obrázek 2" descr=""/>
          <p:cNvPicPr/>
          <p:nvPr/>
        </p:nvPicPr>
        <p:blipFill>
          <a:blip r:embed="rId1"/>
          <a:stretch/>
        </p:blipFill>
        <p:spPr>
          <a:xfrm>
            <a:off x="4556160" y="179280"/>
            <a:ext cx="2284200" cy="863640"/>
          </a:xfrm>
          <a:prstGeom prst="rect">
            <a:avLst/>
          </a:prstGeom>
          <a:ln w="0">
            <a:noFill/>
          </a:ln>
        </p:spPr>
      </p:pic>
      <p:pic>
        <p:nvPicPr>
          <p:cNvPr id="72" name="Obrázek 1" descr=""/>
          <p:cNvPicPr/>
          <p:nvPr/>
        </p:nvPicPr>
        <p:blipFill>
          <a:blip r:embed="rId2"/>
          <a:stretch/>
        </p:blipFill>
        <p:spPr>
          <a:xfrm>
            <a:off x="5400720" y="1258920"/>
            <a:ext cx="4422600" cy="62056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287280" y="1332000"/>
            <a:ext cx="496908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4000"/>
              </a:lnSpc>
              <a:spcAft>
                <a:spcPts val="1426"/>
              </a:spcAft>
              <a:buClr>
                <a:srgbClr val="0070c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Trebuchet MS"/>
                <a:ea typeface="Microsoft YaHei"/>
              </a:rPr>
              <a:t>Inovativní projekt v oblasti šetrné energetiky, pod záštitou MŽP Č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Aft>
                <a:spcPts val="1426"/>
              </a:spcAft>
              <a:buClr>
                <a:srgbClr val="0070c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Trebuchet MS"/>
                <a:ea typeface="Microsoft YaHei"/>
              </a:rPr>
              <a:t>Cíl: ocenit a vyzdvihnout zajímavé projekty využívající obnovitelné zdroje, které mají hmatatelný přínos pro své uživatele a využívají inovativní řeš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Aft>
                <a:spcPts val="1426"/>
              </a:spcAft>
              <a:buClr>
                <a:srgbClr val="0070c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6920" y="323640"/>
            <a:ext cx="392436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800" spc="-1" strike="noStrike">
                <a:solidFill>
                  <a:srgbClr val="0070c0"/>
                </a:solidFill>
                <a:latin typeface="Trebuchet MS"/>
              </a:rPr>
              <a:t>Desetiletí s OZE</a:t>
            </a:r>
            <a:endParaRPr b="1" lang="en-US" sz="3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155520" y="-1227240"/>
            <a:ext cx="397188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8"/>
          <p:cNvSpPr/>
          <p:nvPr/>
        </p:nvSpPr>
        <p:spPr>
          <a:xfrm>
            <a:off x="155520" y="-1227240"/>
            <a:ext cx="397188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0"/>
          <p:cNvSpPr/>
          <p:nvPr/>
        </p:nvSpPr>
        <p:spPr>
          <a:xfrm>
            <a:off x="155520" y="-1227240"/>
            <a:ext cx="397188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2"/>
          <p:cNvSpPr/>
          <p:nvPr/>
        </p:nvSpPr>
        <p:spPr>
          <a:xfrm>
            <a:off x="155520" y="-1227240"/>
            <a:ext cx="397188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4"/>
          <p:cNvSpPr/>
          <p:nvPr/>
        </p:nvSpPr>
        <p:spPr>
          <a:xfrm>
            <a:off x="155520" y="-1227240"/>
            <a:ext cx="397188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obrázek 2" descr=""/>
          <p:cNvPicPr/>
          <p:nvPr/>
        </p:nvPicPr>
        <p:blipFill>
          <a:blip r:embed="rId1"/>
          <a:stretch/>
        </p:blipFill>
        <p:spPr>
          <a:xfrm>
            <a:off x="4556160" y="179280"/>
            <a:ext cx="2284200" cy="863640"/>
          </a:xfrm>
          <a:prstGeom prst="rect">
            <a:avLst/>
          </a:prstGeom>
          <a:ln w="0">
            <a:noFill/>
          </a:ln>
        </p:spPr>
      </p:pic>
      <p:pic>
        <p:nvPicPr>
          <p:cNvPr id="81" name="Obrázek 1" descr=""/>
          <p:cNvPicPr/>
          <p:nvPr/>
        </p:nvPicPr>
        <p:blipFill>
          <a:blip r:embed="rId2"/>
          <a:stretch/>
        </p:blipFill>
        <p:spPr>
          <a:xfrm>
            <a:off x="5400720" y="1258920"/>
            <a:ext cx="4422600" cy="62056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287280" y="1332000"/>
            <a:ext cx="496908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4000"/>
              </a:lnSpc>
              <a:spcAft>
                <a:spcPts val="1426"/>
              </a:spcAft>
              <a:buClr>
                <a:srgbClr val="0070c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Trebuchet MS"/>
                <a:ea typeface="Microsoft YaHei"/>
              </a:rPr>
              <a:t>Jsme také v polovině plnění cíle navyšujícího podíl obnovitelných zdrojů do roku 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Aft>
                <a:spcPts val="1426"/>
              </a:spcAft>
              <a:buClr>
                <a:srgbClr val="0070c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Trebuchet MS"/>
                <a:ea typeface="Microsoft YaHei"/>
              </a:rPr>
              <a:t>Pojďme představit nejzajímavější myšlenky na využití šetrné energetiky v podobě ocenění pro diplomové či disertační práce a ocenění pro progresivní start-up pro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Aft>
                <a:spcPts val="1426"/>
              </a:spcAft>
              <a:buClr>
                <a:srgbClr val="0070c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72960" y="306000"/>
            <a:ext cx="41767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800" spc="-1" strike="noStrike">
                <a:solidFill>
                  <a:srgbClr val="0070c0"/>
                </a:solidFill>
                <a:latin typeface="Trebuchet MS"/>
              </a:rPr>
              <a:t>Vyhlášení soutěže</a:t>
            </a:r>
            <a:endParaRPr b="1" lang="en-US" sz="3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87280" y="1332000"/>
            <a:ext cx="97218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70c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rebuchet MS"/>
              </a:rPr>
              <a:t>Listopad 2015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: zveřejnění soutěžních os, specifikace požadavků na zasílané projekty, představení odborné poro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70c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rebuchet MS"/>
              </a:rPr>
              <a:t>Listopad 2016</a:t>
            </a:r>
            <a:r>
              <a:rPr b="1" lang="cs-CZ" sz="2600" spc="-1" strike="noStrike">
                <a:solidFill>
                  <a:srgbClr val="000000"/>
                </a:solidFill>
                <a:latin typeface="Trebuchet MS"/>
              </a:rPr>
              <a:t> – leden 2016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: průběžné aktuality a komunikace možnosti přihlásit projekt do soutěže v partnerských médií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70c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rebuchet MS"/>
              </a:rPr>
              <a:t>Únor 2016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: vyhlášení výsledků soutěže na slavnostním večeru včetně diskuze na téma očekávaných příležitostí v šetrné energet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70c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rebuchet MS"/>
              </a:rPr>
              <a:t>Únor 2016 a následující měsíce: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prezentace oceněných projektů v médiích, na diskuzních setkáních a v rámci dalších společných aktivit s projektanty vítězných projektů a jejich uživate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Aft>
                <a:spcPts val="1426"/>
              </a:spcAft>
              <a:buClr>
                <a:srgbClr val="0070c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155520" y="-1227240"/>
            <a:ext cx="397188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155520" y="-1227240"/>
            <a:ext cx="397188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0"/>
          <p:cNvSpPr/>
          <p:nvPr/>
        </p:nvSpPr>
        <p:spPr>
          <a:xfrm>
            <a:off x="155520" y="-1227240"/>
            <a:ext cx="397188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2"/>
          <p:cNvSpPr/>
          <p:nvPr/>
        </p:nvSpPr>
        <p:spPr>
          <a:xfrm>
            <a:off x="155520" y="-1227240"/>
            <a:ext cx="397188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4"/>
          <p:cNvSpPr/>
          <p:nvPr/>
        </p:nvSpPr>
        <p:spPr>
          <a:xfrm>
            <a:off x="155520" y="-1227240"/>
            <a:ext cx="397188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obrázek 2" descr=""/>
          <p:cNvPicPr/>
          <p:nvPr/>
        </p:nvPicPr>
        <p:blipFill>
          <a:blip r:embed="rId1"/>
          <a:stretch/>
        </p:blipFill>
        <p:spPr>
          <a:xfrm>
            <a:off x="4556160" y="179280"/>
            <a:ext cx="22842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72960" y="577440"/>
            <a:ext cx="41767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400" spc="-1" strike="noStrike">
                <a:solidFill>
                  <a:srgbClr val="0070c0"/>
                </a:solidFill>
                <a:latin typeface="Trebuchet MS"/>
              </a:rPr>
              <a:t>Kategorie hledaných projektů</a:t>
            </a:r>
            <a:endParaRPr b="1" lang="en-US" sz="3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431640" y="1476360"/>
            <a:ext cx="93618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70c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2600" spc="-1" strike="noStrike">
                <a:solidFill>
                  <a:srgbClr val="00b050"/>
                </a:solidFill>
                <a:latin typeface="Trebuchet MS"/>
              </a:rPr>
              <a:t>Energeticky šetrná domácnost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: využití obnovitelných zdrojů v rodinných nebo bytových dome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70c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2600" spc="-1" strike="noStrike">
                <a:solidFill>
                  <a:srgbClr val="00b050"/>
                </a:solidFill>
                <a:latin typeface="Trebuchet MS"/>
              </a:rPr>
              <a:t>Energeticky šetrný podnikatel/firma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: využití obnovitelných zdrojů u živnostníků nebo malých fir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70c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2600" spc="-1" strike="noStrike">
                <a:solidFill>
                  <a:srgbClr val="00b050"/>
                </a:solidFill>
                <a:latin typeface="Trebuchet MS"/>
              </a:rPr>
              <a:t>Energeticky šetrné město a obec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: komunální projekty využívající obnovitelné zdro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70c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2600" spc="-1" strike="noStrike">
                <a:solidFill>
                  <a:srgbClr val="00b050"/>
                </a:solidFill>
                <a:latin typeface="Trebuchet MS"/>
              </a:rPr>
              <a:t>Dobrý nápad s šetrnou energií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: ocenění pro diplomové nebo disertační práce zaměřené na využití obnovitelných zdroj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70c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2600" spc="-1" strike="noStrike">
                <a:solidFill>
                  <a:srgbClr val="00b050"/>
                </a:solidFill>
                <a:latin typeface="Trebuchet MS"/>
              </a:rPr>
              <a:t>Na prahu šetrného byznysu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: ocenění pro start-up projekty (OZE a smart grid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155520" y="-1227240"/>
            <a:ext cx="397188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155520" y="-1227240"/>
            <a:ext cx="397188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155520" y="-1227240"/>
            <a:ext cx="397188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2"/>
          <p:cNvSpPr/>
          <p:nvPr/>
        </p:nvSpPr>
        <p:spPr>
          <a:xfrm>
            <a:off x="155520" y="-1227240"/>
            <a:ext cx="397188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4"/>
          <p:cNvSpPr/>
          <p:nvPr/>
        </p:nvSpPr>
        <p:spPr>
          <a:xfrm>
            <a:off x="155520" y="-1227240"/>
            <a:ext cx="397188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obrázek 2" descr=""/>
          <p:cNvPicPr/>
          <p:nvPr/>
        </p:nvPicPr>
        <p:blipFill>
          <a:blip r:embed="rId1"/>
          <a:stretch/>
        </p:blipFill>
        <p:spPr>
          <a:xfrm>
            <a:off x="4556160" y="179280"/>
            <a:ext cx="22842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1280" y="5040360"/>
            <a:ext cx="91458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800" spc="-1" strike="noStrike">
                <a:solidFill>
                  <a:srgbClr val="0070c0"/>
                </a:solidFill>
                <a:latin typeface="Trebuchet MS"/>
              </a:rPr>
              <a:t>Výzva, podmínky a požadavky na zasílané projekty budou zveřejněny v průběhu listopadu na www.alies.cz/inovativni-projekt</a:t>
            </a:r>
            <a:endParaRPr b="1" lang="en-US" sz="4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155520" y="-1227240"/>
            <a:ext cx="397188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155520" y="-1227240"/>
            <a:ext cx="397188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155520" y="-1227240"/>
            <a:ext cx="397188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155520" y="-1227240"/>
            <a:ext cx="397188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4"/>
          <p:cNvSpPr/>
          <p:nvPr/>
        </p:nvSpPr>
        <p:spPr>
          <a:xfrm>
            <a:off x="155520" y="-1227240"/>
            <a:ext cx="397188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obrázek 2" descr=""/>
          <p:cNvPicPr/>
          <p:nvPr/>
        </p:nvPicPr>
        <p:blipFill>
          <a:blip r:embed="rId1"/>
          <a:stretch/>
        </p:blipFill>
        <p:spPr>
          <a:xfrm>
            <a:off x="4556160" y="179280"/>
            <a:ext cx="22842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503280" y="1771560"/>
            <a:ext cx="5194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1280" indent="-341280"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5600" spc="-1" strike="noStrike">
                <a:solidFill>
                  <a:srgbClr val="0070c0"/>
                </a:solidFill>
                <a:latin typeface="Trebuchet MS"/>
                <a:ea typeface="Microsoft YaHei"/>
              </a:rPr>
              <a:t>Děkuji za pozornost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Martin Sedlák (AliES), 737 128 471, martin.sedlak@alies.cz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obrázek 2" descr=""/>
          <p:cNvPicPr/>
          <p:nvPr/>
        </p:nvPicPr>
        <p:blipFill>
          <a:blip r:embed="rId1"/>
          <a:stretch/>
        </p:blipFill>
        <p:spPr>
          <a:xfrm>
            <a:off x="4556160" y="179280"/>
            <a:ext cx="2284200" cy="863640"/>
          </a:xfrm>
          <a:prstGeom prst="rect">
            <a:avLst/>
          </a:prstGeom>
          <a:ln w="0">
            <a:noFill/>
          </a:ln>
        </p:spPr>
      </p:pic>
      <p:pic>
        <p:nvPicPr>
          <p:cNvPr id="108" name="Obrázek 1" descr=""/>
          <p:cNvPicPr/>
          <p:nvPr/>
        </p:nvPicPr>
        <p:blipFill>
          <a:blip r:embed="rId2"/>
          <a:stretch/>
        </p:blipFill>
        <p:spPr>
          <a:xfrm>
            <a:off x="6048360" y="1771560"/>
            <a:ext cx="37972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16:31:57Z</dcterms:created>
  <dc:creator>leo knotek</dc:creator>
  <dc:description/>
  <dc:language>en-US</dc:language>
  <cp:lastModifiedBy>Vit Jasek</cp:lastModifiedBy>
  <dcterms:modified xsi:type="dcterms:W3CDTF">2015-10-22T04:18:33Z</dcterms:modified>
  <cp:revision>343</cp:revision>
  <dc:subject/>
  <dc:title> </dc:title>
</cp:coreProperties>
</file>