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993240" y="770040"/>
            <a:ext cx="51152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"/>
          </p:nvPr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75A-0130-496A-A69B-BD3066141B8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12D-E6FF-44F9-BBBC-F943F210BBC0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B56-61B5-4AE1-9496-D61B34C667CE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55C2-E2D3-4308-B3BF-CE63C8FE0EC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317-7965-40B6-A2C0-19B92F6CF4DA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008000" y="1443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66320" y="3927600"/>
            <a:ext cx="662004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4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EAD-A737-4C69-AC3D-E0C62557EAC3}" type="slidenum">
              <a:rPr b="0" lang="cs-CZ" sz="13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F4C-48C6-43B3-AB21-248D9A19397A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495B-8273-436F-AF39-4C37EEEF9DE6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2C7-BFC9-438D-8FD2-58E9E9129D47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969-E4F0-45BD-A630-08864939A150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5240" cy="3835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číslo snímku 3"/>
          <p:cNvSpPr/>
          <p:nvPr/>
        </p:nvSpPr>
        <p:spPr>
          <a:xfrm>
            <a:off x="402444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768-6A4B-4F03-A1C8-058C99C469E2}" type="slidenum">
              <a:rPr b="0" lang="cs-CZ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b8d"/>
                </a:solidFill>
                <a:latin typeface="Arial"/>
              </a:rPr>
              <a:t>NAP 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74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P 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P 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b8d"/>
                </a:solidFill>
                <a:latin typeface="Arial"/>
              </a:rPr>
              <a:t>NAP 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délník 5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6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44600" y="5807160"/>
            <a:ext cx="1698480" cy="79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4"/>
          <a:stretch/>
        </p:blipFill>
        <p:spPr>
          <a:xfrm>
            <a:off x="5091120" y="3637080"/>
            <a:ext cx="4052880" cy="3225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b8d"/>
                </a:solidFill>
                <a:latin typeface="Arial"/>
              </a:rPr>
              <a:t>NAP 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b8d"/>
                </a:solidFill>
                <a:latin typeface="Arial"/>
              </a:rPr>
              <a:t>NAP 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4b8d"/>
                </a:solidFill>
                <a:latin typeface="Arial"/>
              </a:rPr>
              <a:t>NAP 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48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P 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délník 5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6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449280" y="5807160"/>
            <a:ext cx="1698480" cy="798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4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92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P 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33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P 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délník 5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422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Chytré sítě a legislativa v oblasti šetrných zdroj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544840" y="5727240"/>
            <a:ext cx="21254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Ing. Martin Píseck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isecky@mpo.c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Co obsahuje Národní akční plá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Zabývá se převážně oblastí elektroenerge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Definuje opatření v časovém horizontu let 2015 – 2020, s výhledem do roku 20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Předpokládá postupné zavedení inteligentních sítí a dalších opatření v několika etap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27720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Způsob a rychlost zavádění inteligentních sítí jsou přizpůsobeny přínosům pro spotřebitele tak, aby průběh byl nákladově optimální a náklady korespondovaly s příno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Předpo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Do roku 2019</a:t>
            </a: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Přebytková bilance elektroenergeti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Do roku 2016 zavedeno zjednodušené připojování malých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Centrální evidence OPM u 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Model trhu formován energeticko-klimatickou politikou EU, síťovými kodexy, opatřeními rešícími nedostatek stabilní výrobní k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Na přání zákazníka možnost instalovat chytrý elektroměr (za úhradu vícenáklad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Vyřešena otázka ochrany osobních údajů v předávaných da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Instalovaný výkon distribuované výroby cca. 4800MW nepředstavuje problém pro soustav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Dokončení a vyhodnocení pilotních projektů, průběžné hodnocení NAP SG 12/2017, aktualizace plánu realizace SG 12/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Předpo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Do roku 2024</a:t>
            </a: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Přebytková bilance elektroenergeti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Zahájeno plošné nasazování chytrých měřidel v rámci obmě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Instalovaný výkon distribuované výroby cca. 5700MW lze ještě řešit klasickými prostřed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Ke konci období rozvoj akumulace z intermitentních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Významnější rozvoj elektromobility (v souladu s NAP Č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Zprostředkování informací o ceně komodity s využitím 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Rozvoj a obnova DS – v souladu s NAP SG: nová generace ochran, dálkově ovládané transformovny a úsekové odpojovače, technologie W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Předpo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Do roku 2029</a:t>
            </a: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Přebytková bilance elektroenergetiky se může měnit na deficitní, v závislosti na realizaci nových výrobních kapac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Dokončeno plošné nasazování chytrých měřidel v rámci obmě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Instalovaný výkon distribuované výroby cca. 6600MW již vyžaduje vyšší „inteligenci“ sí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Zlevnění technologií OZE a akumulace a tím možnost jejich začlenění do trhu bez podpory a vzniku nového segmentu tr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Relativně rozvinutá elektromobilita (v souladu s NAP ČM), stovky tisíc vozidel – nabíjecí výkon v řádu stovek M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Předpo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Do roku 2040</a:t>
            </a: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Může přetrvávat deficitní bilance, navíc v důsledku vyššího podílu intermitentních zdrojů problematické zajišťování klasických podpůrných služeb, nutnost využívat i stranu spotřeby (DS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Dokončeno plošné nasazování chytrých měřidel v rámci obmě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Instalovaný výkon distribuované výroby cca. 9700MW již nezbytně vyžaduje využívání SG v DS i PS, zapojení distribuované výroby a spotřeby do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Model trhu i provozování ES změněn, nutnost automatické reakce na výrobu z OZE – indikátorem je cena na krátkodobém trhu (dynamický tarifní systé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Bilance s provozem 2x JE</a:t>
            </a: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Zástupný symbol pro obsah 2" descr=""/>
          <p:cNvPicPr/>
          <p:nvPr/>
        </p:nvPicPr>
        <p:blipFill>
          <a:blip r:embed="rId1"/>
          <a:stretch/>
        </p:blipFill>
        <p:spPr>
          <a:xfrm>
            <a:off x="0" y="816120"/>
            <a:ext cx="9144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Bilance s provozem 1x JE</a:t>
            </a: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123840" y="811080"/>
            <a:ext cx="88963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Ilustrace DSR – ochota přesunout spotřeb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Zástupný symbol pro obsah 2" descr=""/>
          <p:cNvPicPr/>
          <p:nvPr/>
        </p:nvPicPr>
        <p:blipFill>
          <a:blip r:embed="rId1"/>
          <a:stretch/>
        </p:blipFill>
        <p:spPr>
          <a:xfrm>
            <a:off x="444600" y="816120"/>
            <a:ext cx="82566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Předpo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Financování</a:t>
            </a: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Hlavní část nákladů ponesou regulované subjekty -&gt; financování především prostřednictvím tarif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Při realizaci opatření bude vždy uvažována možnost financování z fondů EU -&gt; snížení zátěže pro zákazní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Arial"/>
              </a:rPr>
              <a:t>Harmonogram, který je součástí NAP SG, je ucelený návrh opatření, která zajistí přípravu a realizaci nutných změn nákladově optimálním způso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Tabulka opatř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Zástupný symbol pro obsah 2" descr=""/>
          <p:cNvPicPr/>
          <p:nvPr/>
        </p:nvPicPr>
        <p:blipFill>
          <a:blip r:embed="rId1"/>
          <a:stretch/>
        </p:blipFill>
        <p:spPr>
          <a:xfrm>
            <a:off x="123840" y="811080"/>
            <a:ext cx="89060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Šetrná energetika – zavedení chytrých sí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Využívání šetrných zdrojů – nejlevnější energie je ta, která se nemusela vyrob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Šetrné zdroje – např. zdroje elektrické energie s nízkými nebo žádnými emisemi skleníkových plynů a jiných škodlivých látek typických pro klasické výrob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Zavedení energetických úspor - např. úsporné budovy (PENB), úsporné spotřebiče (štítkování), regulace a měření, ovládání strany spotřeb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Teplárenství – hospodaření s teplem podpořené racionální motivací, vysokoúčinná KV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Efektivní využití části těchto úsporných opatření mohou zajistit tzv. chytré sítě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ČR jako jedna z mála zemí EU již zpracovala Národní akční plán pro zavádění chytrých sítí (NAP SG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NAP SG a vnitrostátní legislativa v oblasti šetrných zdrojů – rámec pro efektivní zavedení šetrné energeti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Vzor Karty opatř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Zástupný symbol pro obsah 2" descr=""/>
          <p:cNvPicPr/>
          <p:nvPr/>
        </p:nvPicPr>
        <p:blipFill>
          <a:blip r:embed="rId1"/>
          <a:stretch/>
        </p:blipFill>
        <p:spPr>
          <a:xfrm>
            <a:off x="1219320" y="816120"/>
            <a:ext cx="6352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44600" y="1029960"/>
            <a:ext cx="837864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zhledem k dlouhodobému výhledu, pro který je akční plán zpracováván, se předpokládají jeho průběžné aktualizace s ohledem na vývoj trhu, podmínek provozu i technologi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Pro důkladné seznámení s problematikou doporučuji prostudovat i analytickou č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4b8d"/>
                </a:solidFill>
                <a:latin typeface="Arial"/>
              </a:rPr>
              <a:t>Celý dokument ke staž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lnSpc>
                <a:spcPct val="95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http://www.mpo.cz/dokument156514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1800" y="1716120"/>
            <a:ext cx="824256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Legislativa v oblasti šetrných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4424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Zákon, který v České republice umožňuje podporou obnovitelných zdrojů, druhotných zdrojů a  vysokoúčinné kombinované výroby elektřiny a tepla je zákon č. 165/2012 Sb. o podporovaných zdrojích energie a o změně některých zákonů. Tento zákon nahradil původní zákon č. 180/2005 Sb., zákon o podpoře využívání obnovitelných zdroj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Tento zákon byl zpracován na základě směrnice Evropského parlamentu a Rady 2009/28/ES ze dne 23. dubna 2009 a byl již několikrát novelizová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Zákon podporuje tyto druhy zdrojů energie a to formou provozní nebo investiční (tepl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Arial"/>
              </a:rPr>
              <a:t>Provozní podpora se uskutečňuje formou výkupních cen nebo zelených bonusů. Výroba energie z odpadů je také předmětem podpory podle zákona č.  165/2012 Sb. Podpora podle zákona je u odpadů možná i v případě vysokoúčinné kombinované výroby elektřiny a tep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3b5ea"/>
                </a:solidFill>
                <a:latin typeface="Arial"/>
              </a:rPr>
              <a:t>Legislativa v oblasti šetrných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3600" y="816120"/>
            <a:ext cx="8256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Aktuální stav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4b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zastavení provozní podpory nových OZE od r. 2014 (mimo MVE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4b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pokračování podpory pro vysokoúčinnou KVET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4b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pokračování podpory druhotných zdrojů, zejména odpadu do spaloven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4b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zastavení podpory za decentralizovanou výrobu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Nově připravenou novelou zákona č. 165/2012 Sb., ve znění zákona č. </a:t>
            </a:r>
            <a:r>
              <a:rPr b="1" lang="cs-CZ" sz="1700" spc="-1" strike="noStrike">
                <a:solidFill>
                  <a:srgbClr val="004b8d"/>
                </a:solidFill>
                <a:latin typeface="Arial"/>
              </a:rPr>
              <a:t>131/2015</a:t>
            </a: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 Sb., která vejde v účinnost 1. ledna 2016 se zavádí provozní podpora tepla na užitečné teplo z výroben tepla, které jsou umístěny na území České republiky a které splňují minimální účinnost užití energie stanovenou prováděcím právním předpisem a jež mají instalovaný elektrický výkon do 500 kW a využívají bioplyn vznikající z více než 70% ze statkových hnojiv a vedlejších produktů živočišné výroby a nebo z biologicky rozložitelného odpadu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Zákon č. 406/2000 Sb., o hospodaření energií – problematika energetických úsp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4b8d"/>
                </a:solidFill>
                <a:latin typeface="Arial"/>
              </a:rPr>
              <a:t>Zákon č. 458/2000 Sb., energetický zákon – m. j. legislativa v oblasti chytrých sít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Clr>
                <a:srgbClr val="004b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Proč Národní akční plá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Zpracování NAP SG je od členských států EU požadováno v příloze Sdělení Evropské komise “Zajistit fungování vnitřního trhu s energií“, vydaného 15. listopadu 20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Rovněž v Aktualizaci státní energetické koncepce ČR (ASEK) je formulován úkol pro MPO: “Zpracovat Národní akční plán implementace inteligentních sítí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Proč Národní akční plá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Poskytnutí podpory spotřebitelům pro zvýšení účinnosti užití ene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Integrace rostoucího objemu výroby elektřiny z intermitentních zdrojů a malých decentrálních zdrojů připojených do distribuční sí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Zajištění technologické podpory pro moderní koncepty typu smart cities, elektromobilita, akumulace, 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858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 důsledku příspěvek (prostřednictvím inteligentních technologií) ke splnění definovaných emisních cí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Jak vznikal Národní akční plá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 letech 2013 – 2014 probíhaly analýzy a příprava podkladů (expertní tým pod vedením MP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Tři hlavní oblasti – legislativa, tarify, tech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 závěru roku 2014 na jejich základě zpracován Národní akční plán pro chytré sí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Jak vznikal Národní akční plá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Následně připomínkové řízení – vnitřní v rámci MPO, a mezirezortní (ministerstva, odborná sdružení at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Dokument po vypořádání přípomínek předložen vládě, schválen 4.3.2015 usnesením vlády ČR č. 1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Schválením se stává závazným pro orgány státní sprá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4240" y="446040"/>
            <a:ext cx="82566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Arial"/>
              </a:rPr>
              <a:t>Aktuální sta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44600" y="1055520"/>
            <a:ext cx="8378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 současné době jsou již realizována některá opatření s nejkratším časovým horizontem (připojení bez licence, zjednodušené připojení malých zdroj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U některých opatření bude nutná modifikace termínu (souvislost s legislativou – EZ, s tvorbou nové tarifní struktury at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V červenci 2015 ustaven Koordinační výbor, předseda NM Šolc (zástupci MPO, ERÚ, OTE, PPS, P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Úkol: sledovat a koordinovat realizaci NAP SG, vydávat doporučení k dalšímu post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Arial"/>
              </a:rPr>
              <a:t>Jednání min. 4x ročně, případně častěji dle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5:27:11Z</dcterms:created>
  <dc:creator>MRa</dc:creator>
  <dc:description/>
  <dc:language>en-US</dc:language>
  <cp:lastModifiedBy>martin</cp:lastModifiedBy>
  <cp:lastPrinted>2015-08-25T06:45:18Z</cp:lastPrinted>
  <dcterms:modified xsi:type="dcterms:W3CDTF">2015-10-22T06:33:49Z</dcterms:modified>
  <cp:revision>445</cp:revision>
  <dc:subject/>
  <dc:title>Prezentace aplikace PowerPoint</dc:title>
</cp:coreProperties>
</file>